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on Casu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AAE-192B-476F-9470-708F7F62A8F6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BE60-B5B3-4F06-80E2-06A39AD077D9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B53-DE5C-4088-B61A-978D10E9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F1F-0872-4AB2-BDB7-220339DF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CA0-F136-4D24-A7A5-27FBD2C1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548-5AAA-4F42-ACD4-9AC3D176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EA9-CF0C-4CDA-A950-B5F5B606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8F5E-2884-40A6-B99C-F85B8E89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4CF-B760-49C7-9BDF-74096AF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582-A486-4675-BFD0-28748D8F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09A-2BAD-44E8-B377-416D93B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AB5-3FC0-412E-A434-8688B54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36F-14F9-417E-B093-62F061C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C87-4946-4AFA-805D-5A822BE7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14F5-5E81-4673-BFFA-AF78A0625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hubpages.com/hub/Fearless-Women-Riders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Do you believe that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f information is 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published on the web,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t must be correct AND/OR appropriate for research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030a0"/>
                </a:solidFill>
                <a:latin typeface="Comic Sans MS"/>
              </a:rPr>
              <a:t>Where?</a:t>
            </a:r>
            <a:endParaRPr b="1" lang="en-US" sz="8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473560" cy="4648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384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re does the information come from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the site contain a bibliography of where the information was learn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citations seem to be accurate/rea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y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19360" y="1522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is the information usefu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it thorough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should I use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Can I verify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answer your research ques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ohiohistorycentral.org/entry.php?rec=591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hubpages.com/hub/Fearless-Women-Riders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ross</a:t>
            </a:r>
            <a:br>
              <a:rPr sz="8000"/>
            </a:b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heck</a:t>
            </a:r>
            <a:endParaRPr b="1" lang="en-US" sz="8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94" name="Object 3" descr=""/>
          <p:cNvPicPr/>
          <p:nvPr/>
        </p:nvPicPr>
        <p:blipFill>
          <a:blip r:embed="rId1"/>
          <a:stretch/>
        </p:blipFill>
        <p:spPr>
          <a:xfrm>
            <a:off x="0" y="236232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can I cross check the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does this material fit with what I already know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other sources support this site’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linked sites reveal biases of the author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THE FIVE W’S of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WEBSITE EVALUATION</a:t>
            </a:r>
            <a:endParaRPr b="1" lang="en-US" sz="5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TextBox 5"/>
          <p:cNvSpPr/>
          <p:nvPr/>
        </p:nvSpPr>
        <p:spPr>
          <a:xfrm rot="21125400">
            <a:off x="395640" y="3317760"/>
            <a:ext cx="175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o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1" name="TextBox 8"/>
          <p:cNvSpPr/>
          <p:nvPr/>
        </p:nvSpPr>
        <p:spPr>
          <a:xfrm rot="495600">
            <a:off x="1730160" y="4628880"/>
            <a:ext cx="19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at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647160" y="3170160"/>
            <a:ext cx="21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n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3" name="TextBox 10"/>
          <p:cNvSpPr/>
          <p:nvPr/>
        </p:nvSpPr>
        <p:spPr>
          <a:xfrm rot="20489400">
            <a:off x="4738680" y="5043600"/>
            <a:ext cx="23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re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4" name="TextBox 11"/>
          <p:cNvSpPr/>
          <p:nvPr/>
        </p:nvSpPr>
        <p:spPr>
          <a:xfrm rot="709200">
            <a:off x="6840720" y="374796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o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04920" y="1295280"/>
          <a:ext cx="233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233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8640" y="3805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o  sponsors the web pag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Are they an expert in the fiel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a bibliography on the author or sponsoring organizat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re contact information given -- email, phone, or address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Examples of GOOD and QUESTIONABLE Sourc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980720"/>
            <a:ext cx="44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Encyclopedia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S Government Sponsored organization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useum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Acceptable News Sourc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PB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SNBC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ew York Tim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1" marL="42516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QUESTIONABLE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Individual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Groups on one side of a controversy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o information give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Let’s Look at Some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http://hubpages.com/hub/Fearless-Women-Riders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at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9880" y="304920"/>
            <a:ext cx="5105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at is the stated purpose of the sit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biase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fact or opin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words that try to persuade rather than inform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meant to educate or to sell a product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66" name="Group 33"/>
          <p:cNvGrpSpPr/>
          <p:nvPr/>
        </p:nvGrpSpPr>
        <p:grpSpPr>
          <a:xfrm>
            <a:off x="457200" y="1364040"/>
            <a:ext cx="2547720" cy="5260680"/>
            <a:chOff x="457200" y="1364040"/>
            <a:chExt cx="2547720" cy="5260680"/>
          </a:xfrm>
        </p:grpSpPr>
        <p:sp>
          <p:nvSpPr>
            <p:cNvPr id="67" name="Freeform 6"/>
            <p:cNvSpPr/>
            <p:nvPr/>
          </p:nvSpPr>
          <p:spPr>
            <a:xfrm>
              <a:off x="1233720" y="2046240"/>
              <a:ext cx="954000" cy="10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457200" y="1774800"/>
              <a:ext cx="1098720" cy="16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492560" y="3181320"/>
              <a:ext cx="574560" cy="159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0" name="Freeform 10"/>
            <p:cNvSpPr/>
            <p:nvPr/>
          </p:nvSpPr>
          <p:spPr>
            <a:xfrm>
              <a:off x="1827360" y="4613400"/>
              <a:ext cx="1066680" cy="19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155960" y="4608720"/>
              <a:ext cx="718920" cy="20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grpSp>
          <p:nvGrpSpPr>
            <p:cNvPr id="72" name="Group 18"/>
            <p:cNvGrpSpPr/>
            <p:nvPr/>
          </p:nvGrpSpPr>
          <p:grpSpPr>
            <a:xfrm>
              <a:off x="1924200" y="1371600"/>
              <a:ext cx="441360" cy="595440"/>
              <a:chOff x="1924200" y="1371600"/>
              <a:chExt cx="441360" cy="595440"/>
            </a:xfrm>
          </p:grpSpPr>
          <p:sp>
            <p:nvSpPr>
              <p:cNvPr id="73" name="Freeform 13"/>
              <p:cNvSpPr/>
              <p:nvPr/>
            </p:nvSpPr>
            <p:spPr>
              <a:xfrm>
                <a:off x="2009880" y="1371600"/>
                <a:ext cx="355680" cy="41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1924200" y="1854360"/>
                <a:ext cx="11124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</p:grpSp>
        <p:sp>
          <p:nvSpPr>
            <p:cNvPr id="75" name="Freeform 26"/>
            <p:cNvSpPr/>
            <p:nvPr/>
          </p:nvSpPr>
          <p:spPr>
            <a:xfrm rot="992400">
              <a:off x="1839600" y="1443240"/>
              <a:ext cx="873360" cy="217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</p:grpSp>
    </p:spTree>
  </p:cSld>
  <p:transition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en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9" name="Object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83000" cy="4648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3045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the site created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it last updat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the information included in the site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matter if the information is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40:18Z</dcterms:created>
  <dc:creator>Ross Garrett</dc:creator>
  <dc:description/>
  <dc:language>en-US</dc:language>
  <cp:lastModifiedBy> </cp:lastModifiedBy>
  <cp:lastPrinted>2000-03-27T04:34:43Z</cp:lastPrinted>
  <dcterms:modified xsi:type="dcterms:W3CDTF">2009-01-05T13:42:22Z</dcterms:modified>
  <cp:revision>69</cp:revision>
  <dc:subject/>
  <dc:title>FIVE W’S of WORLD WIDE WEB EVALUATION</dc:title>
</cp:coreProperties>
</file>