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Don Casu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on Casu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on Casu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2880" y="677520"/>
            <a:ext cx="451332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radley Hand ITC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on Casu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Don Casu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0F41-CE3F-49E0-86B0-08692E28057C}" type="slidenum">
              <a:rPr b="0" lang="en-US" sz="1200" spc="-1" strike="noStrike">
                <a:solidFill>
                  <a:srgbClr val="000000"/>
                </a:solidFill>
                <a:latin typeface="Don Casu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on Casu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CA3F-443A-48A7-971F-D6D99599A592}" type="slidenum">
              <a:rPr b="0" lang="en-US" sz="1200" spc="-1" strike="noStrike">
                <a:solidFill>
                  <a:srgbClr val="000000"/>
                </a:solidFill>
                <a:latin typeface="Don Casu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on Casu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E3BD-D05C-4CBD-9DF7-A96F15755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9B44-4859-4FFA-9559-39E019D2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4AF8-A7F2-4EF7-895F-4AD290DEA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A0A1-9A6E-492C-B713-B4C35E319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5FE9-1E6A-40F5-9EB0-922E2ECC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7344-8532-40B7-98A8-C214B357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A5D0-02E9-498B-9F2E-F0089738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7E34-DDED-4453-AF68-CE38D17D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4E29-663B-4F51-A3D4-D027BCCA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E766-E6B7-4673-A254-43890B0D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7EE4-0792-4C36-95AF-CB050BBD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894F-810C-4AC0-B834-DE6ADABC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radley Hand ITC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lvl="1" marL="653760" indent="-251280">
              <a:spcBef>
                <a:spcPts val="901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lvl="2" marL="1005840" indent="-200880">
              <a:spcBef>
                <a:spcPts val="9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lvl="3" marL="1407960" indent="-200880">
              <a:spcBef>
                <a:spcPts val="901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lvl="4" marL="1810440" indent="-200880">
              <a:spcBef>
                <a:spcPts val="901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lvl="5" marL="1810440" indent="-200880">
              <a:spcBef>
                <a:spcPts val="901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lvl="6" marL="1810440" indent="-200880">
              <a:spcBef>
                <a:spcPts val="901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on Casu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on Casu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3806-2463-433C-AD86-DA0701456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on Casu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ssortment.com/all/pioneerwomenor_rzou.htm" TargetMode="External"/><Relationship Id="rId2" Type="http://schemas.openxmlformats.org/officeDocument/2006/relationships/hyperlink" Target="http://www.memory.loc.gov/learn/features/women/women.html" TargetMode="External"/><Relationship Id="rId3" Type="http://schemas.openxmlformats.org/officeDocument/2006/relationships/hyperlink" Target="http://www.legendsofamerica.com/WE-WomenList.html" TargetMode="External"/><Relationship Id="rId4" Type="http://schemas.openxmlformats.org/officeDocument/2006/relationships/hyperlink" Target="http://www.ohiohistorycentral.org/entry.php?rec=591" TargetMode="External"/><Relationship Id="rId5" Type="http://schemas.openxmlformats.org/officeDocument/2006/relationships/hyperlink" Target="http://www.essortment.com/all/pioneerwomenor_rzou.htm" TargetMode="External"/><Relationship Id="rId6" Type="http://schemas.openxmlformats.org/officeDocument/2006/relationships/hyperlink" Target="http://hubpages.com/hub/Fearless-Women-Riders" TargetMode="External"/><Relationship Id="rId7" Type="http://schemas.openxmlformats.org/officeDocument/2006/relationships/hyperlink" Target="http://www.essortment.com/all/pioneerwomenor_rzou.htm" TargetMode="External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ssortment.com/all/pioneerwomenor_rzou.htm" TargetMode="External"/><Relationship Id="rId2" Type="http://schemas.openxmlformats.org/officeDocument/2006/relationships/hyperlink" Target="http://www.memory.loc.gov/learn/features/women/women.html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ssortment.com/all/pioneerwomenor_rzou.htm" TargetMode="External"/><Relationship Id="rId2" Type="http://schemas.openxmlformats.org/officeDocument/2006/relationships/hyperlink" Target="http://www.memory.loc.gov/learn/features/women/women.html" TargetMode="External"/><Relationship Id="rId3" Type="http://schemas.openxmlformats.org/officeDocument/2006/relationships/hyperlink" Target="http://www.legendsofamerica.com/WE-WomenList.html" TargetMode="External"/><Relationship Id="rId4" Type="http://schemas.openxmlformats.org/officeDocument/2006/relationships/hyperlink" Target="http://www.ohiohistorycentral.org/entry.php?rec=591" TargetMode="External"/><Relationship Id="rId5" Type="http://schemas.openxmlformats.org/officeDocument/2006/relationships/hyperlink" Target="http://hubpages.com/hub/Fearless-Women-Riders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ssortment.com/all/pioneerwomenor_rzou.htm" TargetMode="External"/><Relationship Id="rId2" Type="http://schemas.openxmlformats.org/officeDocument/2006/relationships/hyperlink" Target="http://www.memory.loc.gov/learn/features/women/women.html" TargetMode="External"/><Relationship Id="rId3" Type="http://schemas.openxmlformats.org/officeDocument/2006/relationships/hyperlink" Target="http://www.legendsofamerica.com/WE-WomenList.html" TargetMode="External"/><Relationship Id="rId4" Type="http://schemas.openxmlformats.org/officeDocument/2006/relationships/hyperlink" Target="http://www.ohiohistorycentral.org/entry.php?rec=591" TargetMode="External"/><Relationship Id="rId5" Type="http://schemas.openxmlformats.org/officeDocument/2006/relationships/hyperlink" Target="http://www.essortment.com/all/pioneerwomenor_rzou.htm" TargetMode="External"/><Relationship Id="rId6" Type="http://schemas.openxmlformats.org/officeDocument/2006/relationships/hyperlink" Target="http://hubpages.com/hub/Fearless-Women-Riders" TargetMode="External"/><Relationship Id="rId7" Type="http://schemas.openxmlformats.org/officeDocument/2006/relationships/hyperlink" Target="http://www.essortment.com/all/pioneerwomenor_rzou.htm" TargetMode="Externa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ssortment.com/all/pioneerwomenor_rzou.htm" TargetMode="External"/><Relationship Id="rId2" Type="http://schemas.openxmlformats.org/officeDocument/2006/relationships/hyperlink" Target="http://www.memory.loc.gov/learn/features/women/women.html" TargetMode="External"/><Relationship Id="rId3" Type="http://schemas.openxmlformats.org/officeDocument/2006/relationships/hyperlink" Target="http://www.legendsofamerica.com/WE-WomenList.html" TargetMode="External"/><Relationship Id="rId4" Type="http://schemas.openxmlformats.org/officeDocument/2006/relationships/hyperlink" Target="http://www.ohiohistorycentral.org/entry.php?rec=591" TargetMode="External"/><Relationship Id="rId5" Type="http://schemas.openxmlformats.org/officeDocument/2006/relationships/hyperlink" Target="http://www.essortment.com/all/pioneerwomenor_rzou.htm" TargetMode="External"/><Relationship Id="rId6" Type="http://schemas.openxmlformats.org/officeDocument/2006/relationships/hyperlink" Target="http://hubpages.com/hub/Fearless-Women-Riders" TargetMode="External"/><Relationship Id="rId7" Type="http://schemas.openxmlformats.org/officeDocument/2006/relationships/hyperlink" Target="http://www.essortment.com/all/pioneerwomenor_rzou.htm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0" y="182880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omic Sans MS"/>
              </a:rPr>
              <a:t>Do you believe that </a:t>
            </a:r>
            <a:r>
              <a:rPr b="1" lang="en-US" sz="4400" spc="-1" strike="noStrike">
                <a:solidFill>
                  <a:srgbClr val="7030a0"/>
                </a:solidFill>
                <a:latin typeface="Comic Sans MS"/>
              </a:rPr>
              <a:t>if information is </a:t>
            </a:r>
            <a:r>
              <a:rPr b="0" lang="en-US" sz="4400" spc="-1" strike="noStrike">
                <a:solidFill>
                  <a:srgbClr val="7030a0"/>
                </a:solidFill>
                <a:latin typeface="Comic Sans MS"/>
              </a:rPr>
              <a:t>published on the web, </a:t>
            </a:r>
            <a:r>
              <a:rPr b="1" lang="en-US" sz="4400" spc="-1" strike="noStrike">
                <a:solidFill>
                  <a:srgbClr val="7030a0"/>
                </a:solidFill>
                <a:latin typeface="Comic Sans MS"/>
              </a:rPr>
              <a:t>it must be correct AND/OR appropriate for research</a:t>
            </a:r>
            <a:r>
              <a:rPr b="0" lang="en-US" sz="4400" spc="-1" strike="noStrike">
                <a:solidFill>
                  <a:srgbClr val="7030a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Don Casu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400" spc="-1" strike="noStrike">
                <a:solidFill>
                  <a:srgbClr val="7030a0"/>
                </a:solidFill>
                <a:latin typeface="Comic Sans MS"/>
              </a:rPr>
              <a:t>Where?</a:t>
            </a:r>
            <a:endParaRPr b="1" lang="en-US" sz="84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84" name="Object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2473560" cy="4648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38480" y="533160"/>
            <a:ext cx="51055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Where does the information come from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  <a:p>
            <a:pPr marL="447840" indent="-44784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Does the site contain a bibliography of where the information was learned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  <a:p>
            <a:pPr marL="447840" indent="-44784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Do the citations seem to be accurate/real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blinds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omic Sans MS"/>
              </a:rPr>
              <a:t>Back to Our Examples</a:t>
            </a: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1"/>
              </a:rPr>
              <a:t>http://www.essortment.com/all/pioneerwomenor_rzou.htm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2"/>
              </a:rPr>
              <a:t>http://www.memory.loc.gov/learn/features/women/women.html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3"/>
              </a:rPr>
              <a:t>http://www.legendsofamerica.com/WE-WomenList.html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4"/>
              </a:rPr>
              <a:t>http://www.ohiohistorycentral.org/entry.php?rec=591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5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6"/>
              </a:rPr>
              <a:t>http://hubpages.com/hub/Fearless-Women-Riders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7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7030a0"/>
                </a:solidFill>
                <a:latin typeface="Comic Sans MS"/>
              </a:rPr>
              <a:t>Why?</a:t>
            </a:r>
            <a:endParaRPr b="1" lang="en-US" sz="88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2787480" cy="4495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19360" y="152280"/>
            <a:ext cx="4724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Why is the information useful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  <a:p>
            <a:pPr marL="411480" indent="-41148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Is it thorough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  <a:p>
            <a:pPr marL="411480" indent="-41148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Why should I use this information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  <a:p>
            <a:pPr marL="411480" indent="-41148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Can I verify this information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  <a:p>
            <a:pPr marL="411480" indent="-41148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Does it answer your research question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cover dir="lu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omic Sans MS"/>
              </a:rPr>
              <a:t>Back to Our Examples</a:t>
            </a: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1"/>
              </a:rPr>
              <a:t>http://www.essortment.com/all/pioneerwomenor_rzou.htm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2"/>
              </a:rPr>
              <a:t>http://www.memory.loc.gov/learn/features/women/women.html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http://www.legendsofamerica.com/WE-WomenList.html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http://www.ohiohistorycentral.org/entry.php?rec=591 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http://hubpages.com/hub/Fearless-Women-Riders 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39625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030a0"/>
                </a:solidFill>
                <a:latin typeface="Comic Sans MS"/>
              </a:rPr>
              <a:t>Cross</a:t>
            </a:r>
            <a:br>
              <a:rPr sz="8000"/>
            </a:br>
            <a:r>
              <a:rPr b="1" lang="en-US" sz="8000" spc="-1" strike="noStrike">
                <a:solidFill>
                  <a:srgbClr val="7030a0"/>
                </a:solidFill>
                <a:latin typeface="Comic Sans MS"/>
              </a:rPr>
              <a:t>Check</a:t>
            </a:r>
            <a:endParaRPr b="1" lang="en-US" sz="80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94" name="Object 3" descr=""/>
          <p:cNvPicPr/>
          <p:nvPr/>
        </p:nvPicPr>
        <p:blipFill>
          <a:blip r:embed="rId1"/>
          <a:stretch/>
        </p:blipFill>
        <p:spPr>
          <a:xfrm>
            <a:off x="0" y="2362320"/>
            <a:ext cx="2787480" cy="44956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114800" y="380520"/>
            <a:ext cx="50292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How can I cross check the information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  <a:p>
            <a:pPr marL="425160" indent="-42516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How does this material fit with what I already know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  <a:p>
            <a:pPr marL="425160" indent="-42516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Do other sources support this site’s information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  <a:p>
            <a:pPr marL="425160" indent="-42516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Do the linked sites reveal biases of the author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cover dir="lu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30a0"/>
                </a:solidFill>
                <a:latin typeface="Comic Sans MS"/>
              </a:rPr>
              <a:t>THE FIVE W’S of</a:t>
            </a: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omic Sans MS"/>
              </a:rPr>
              <a:t>WEBSITE EVALUATION</a:t>
            </a:r>
            <a:endParaRPr b="1" lang="en-US" sz="5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0" name="TextBox 5"/>
          <p:cNvSpPr/>
          <p:nvPr/>
        </p:nvSpPr>
        <p:spPr>
          <a:xfrm rot="21125400">
            <a:off x="395640" y="3317760"/>
            <a:ext cx="175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Comic Sans MS"/>
              </a:rPr>
              <a:t>Who?</a:t>
            </a:r>
            <a:endParaRPr b="0" lang="en-US" sz="4800" spc="-1" strike="noStrike">
              <a:solidFill>
                <a:srgbClr val="000000"/>
              </a:solidFill>
              <a:latin typeface="Don Casual"/>
            </a:endParaRPr>
          </a:p>
        </p:txBody>
      </p:sp>
      <p:sp>
        <p:nvSpPr>
          <p:cNvPr id="51" name="TextBox 8"/>
          <p:cNvSpPr/>
          <p:nvPr/>
        </p:nvSpPr>
        <p:spPr>
          <a:xfrm rot="495600">
            <a:off x="1730160" y="4628880"/>
            <a:ext cx="195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Comic Sans MS"/>
              </a:rPr>
              <a:t>What?</a:t>
            </a:r>
            <a:endParaRPr b="0" lang="en-US" sz="4800" spc="-1" strike="noStrike">
              <a:solidFill>
                <a:srgbClr val="000000"/>
              </a:solidFill>
              <a:latin typeface="Don Casu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3647160" y="3170160"/>
            <a:ext cx="210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Comic Sans MS"/>
              </a:rPr>
              <a:t>When?</a:t>
            </a:r>
            <a:endParaRPr b="0" lang="en-US" sz="4800" spc="-1" strike="noStrike">
              <a:solidFill>
                <a:srgbClr val="000000"/>
              </a:solidFill>
              <a:latin typeface="Don Casual"/>
            </a:endParaRPr>
          </a:p>
        </p:txBody>
      </p:sp>
      <p:sp>
        <p:nvSpPr>
          <p:cNvPr id="53" name="TextBox 10"/>
          <p:cNvSpPr/>
          <p:nvPr/>
        </p:nvSpPr>
        <p:spPr>
          <a:xfrm rot="20489400">
            <a:off x="4738680" y="5043600"/>
            <a:ext cx="23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Comic Sans MS"/>
              </a:rPr>
              <a:t>Where?</a:t>
            </a:r>
            <a:endParaRPr b="0" lang="en-US" sz="4800" spc="-1" strike="noStrike">
              <a:solidFill>
                <a:srgbClr val="000000"/>
              </a:solidFill>
              <a:latin typeface="Don Casual"/>
            </a:endParaRPr>
          </a:p>
        </p:txBody>
      </p:sp>
      <p:sp>
        <p:nvSpPr>
          <p:cNvPr id="54" name="TextBox 11"/>
          <p:cNvSpPr/>
          <p:nvPr/>
        </p:nvSpPr>
        <p:spPr>
          <a:xfrm rot="709200">
            <a:off x="6840720" y="3747960"/>
            <a:ext cx="170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Comic Sans MS"/>
              </a:rPr>
              <a:t>Why?</a:t>
            </a:r>
            <a:endParaRPr b="0" lang="en-US" sz="4800" spc="-1" strike="noStrike">
              <a:solidFill>
                <a:srgbClr val="000000"/>
              </a:solidFill>
              <a:latin typeface="Don Casual"/>
            </a:endParaRPr>
          </a:p>
        </p:txBody>
      </p:sp>
    </p:spTree>
  </p:cSld>
  <p:transition>
    <p:pull dir="r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281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7030a0"/>
                </a:solidFill>
                <a:latin typeface="Comic Sans MS"/>
              </a:rPr>
              <a:t>Who</a:t>
            </a:r>
            <a:endParaRPr b="1" lang="en-US" sz="8800" spc="-1" strike="noStrike">
              <a:solidFill>
                <a:srgbClr val="000000"/>
              </a:solidFill>
              <a:latin typeface="Bradley Hand ITC"/>
            </a:endParaRPr>
          </a:p>
        </p:txBody>
      </p:sp>
      <p:graphicFrame>
        <p:nvGraphicFramePr>
          <p:cNvPr id="56" name="Object 3"/>
          <p:cNvGraphicFramePr/>
          <p:nvPr/>
        </p:nvGraphicFramePr>
        <p:xfrm>
          <a:off x="304920" y="1295280"/>
          <a:ext cx="23382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23382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8640" y="380520"/>
            <a:ext cx="5715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799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Bradley Hand ITC"/>
              </a:rPr>
              <a:t>Who  sponsors the web page?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marL="415800" indent="-415800">
              <a:spcBef>
                <a:spcPts val="799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Bradley Hand ITC"/>
              </a:rPr>
              <a:t>Are they an expert in the field?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marL="415800" indent="-415800">
              <a:spcBef>
                <a:spcPts val="799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Bradley Hand ITC"/>
              </a:rPr>
              <a:t>Does the site contain a bibliography on the author or sponsoring organization?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marL="415800" indent="-415800">
              <a:spcBef>
                <a:spcPts val="799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Bradley Hand ITC"/>
              </a:rPr>
              <a:t>Is there contact information given -- email, phone, or address?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1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omic Sans MS"/>
              </a:rPr>
              <a:t>Examples of GOOD and QUESTIONABLE Sources</a:t>
            </a: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1920" y="1980720"/>
            <a:ext cx="4496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70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Bradley Hand ITC"/>
              </a:rPr>
              <a:t>GOOD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lvl="2" marL="797040" indent="-425160">
              <a:spcBef>
                <a:spcPts val="601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Bradley Hand ITC"/>
              </a:rPr>
              <a:t>Encyclopedias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 lvl="2" marL="797040" indent="-425160">
              <a:spcBef>
                <a:spcPts val="601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Bradley Hand ITC"/>
              </a:rPr>
              <a:t>US Government Sponsored organizations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 lvl="2" marL="797040" indent="-425160">
              <a:spcBef>
                <a:spcPts val="601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Bradley Hand ITC"/>
              </a:rPr>
              <a:t>Universities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 lvl="2" marL="797040" indent="-425160">
              <a:spcBef>
                <a:spcPts val="601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Bradley Hand ITC"/>
              </a:rPr>
              <a:t>Museums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 lvl="2" marL="797040" indent="-425160">
              <a:spcBef>
                <a:spcPts val="601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Bradley Hand ITC"/>
              </a:rPr>
              <a:t>Acceptable News Sources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 lvl="4" marL="1275480" indent="-425160">
              <a:spcBef>
                <a:spcPts val="601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Bradley Hand ITC"/>
              </a:rPr>
              <a:t>PBS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 lvl="4" marL="1275480" indent="-425160">
              <a:spcBef>
                <a:spcPts val="601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Bradley Hand ITC"/>
              </a:rPr>
              <a:t>MSNBC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 lvl="4" marL="1275480" indent="-425160">
              <a:spcBef>
                <a:spcPts val="601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Bradley Hand ITC"/>
              </a:rPr>
              <a:t>CNN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 lvl="4" marL="1275480" indent="-425160">
              <a:spcBef>
                <a:spcPts val="601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Bradley Hand ITC"/>
              </a:rPr>
              <a:t>New York Times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 lvl="1" marL="425160" indent="-425160">
              <a:spcBef>
                <a:spcPts val="601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79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Bradley Hand ITC"/>
              </a:rPr>
              <a:t>QUESTIONABLE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lvl="2" marL="857160" indent="-457200">
              <a:spcBef>
                <a:spcPts val="601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Bradley Hand ITC"/>
              </a:rPr>
              <a:t>Individuals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 lvl="2" marL="857160" indent="-457200">
              <a:spcBef>
                <a:spcPts val="601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Bradley Hand ITC"/>
              </a:rPr>
              <a:t>Groups on one side of a controversy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 lvl="2" marL="857160" indent="-457200">
              <a:spcBef>
                <a:spcPts val="601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Bradley Hand ITC"/>
              </a:rPr>
              <a:t>No information given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omic Sans MS"/>
              </a:rPr>
              <a:t>Let’s Look at Some Examples</a:t>
            </a: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1"/>
              </a:rPr>
              <a:t>http://www.essortment.com/all/pioneerwomenor_rzou.htm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2"/>
              </a:rPr>
              <a:t>http://www.memory.loc.gov/learn/features/women/women.html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3"/>
              </a:rPr>
              <a:t>http://www.legendsofamerica.com/WE-WomenList.html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4"/>
              </a:rPr>
              <a:t>http://www.ohiohistorycentral.org/entry.php?rec=591</a:t>
            </a: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5"/>
              </a:rPr>
              <a:t>http://hubpages.com/hub/Fearless-Women-Riders</a:t>
            </a: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38862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7030a0"/>
                </a:solidFill>
                <a:latin typeface="Comic Sans MS"/>
              </a:rPr>
              <a:t>What</a:t>
            </a:r>
            <a:endParaRPr b="1" lang="en-US" sz="8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9880" y="304920"/>
            <a:ext cx="51055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799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Bradley Hand ITC"/>
              </a:rPr>
              <a:t>What is the stated purpose of the site?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marL="415800" indent="-415800">
              <a:spcBef>
                <a:spcPts val="799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Bradley Hand ITC"/>
              </a:rPr>
              <a:t>Is the site biased?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marL="415800" indent="-415800">
              <a:spcBef>
                <a:spcPts val="799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Bradley Hand ITC"/>
              </a:rPr>
              <a:t>Is the site fact or opinion?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marL="415800" indent="-415800">
              <a:spcBef>
                <a:spcPts val="799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Bradley Hand ITC"/>
              </a:rPr>
              <a:t>Does the site contain words that try to persuade rather than inform?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marL="415800" indent="-415800">
              <a:spcBef>
                <a:spcPts val="799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Bradley Hand ITC"/>
              </a:rPr>
              <a:t>Is the site meant to educate or to sell a product?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grpSp>
        <p:nvGrpSpPr>
          <p:cNvPr id="66" name="Group 33"/>
          <p:cNvGrpSpPr/>
          <p:nvPr/>
        </p:nvGrpSpPr>
        <p:grpSpPr>
          <a:xfrm>
            <a:off x="457200" y="1364040"/>
            <a:ext cx="2547720" cy="5260680"/>
            <a:chOff x="457200" y="1364040"/>
            <a:chExt cx="2547720" cy="5260680"/>
          </a:xfrm>
        </p:grpSpPr>
        <p:sp>
          <p:nvSpPr>
            <p:cNvPr id="67" name="Freeform 6"/>
            <p:cNvSpPr/>
            <p:nvPr/>
          </p:nvSpPr>
          <p:spPr>
            <a:xfrm>
              <a:off x="1233720" y="2046240"/>
              <a:ext cx="954000" cy="105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Don Casual"/>
              </a:endParaRPr>
            </a:p>
          </p:txBody>
        </p:sp>
        <p:sp>
          <p:nvSpPr>
            <p:cNvPr id="68" name="Freeform 7"/>
            <p:cNvSpPr/>
            <p:nvPr/>
          </p:nvSpPr>
          <p:spPr>
            <a:xfrm>
              <a:off x="457200" y="1774800"/>
              <a:ext cx="1098720" cy="169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Don Casual"/>
              </a:endParaRPr>
            </a:p>
          </p:txBody>
        </p:sp>
        <p:sp>
          <p:nvSpPr>
            <p:cNvPr id="69" name="Freeform 8"/>
            <p:cNvSpPr/>
            <p:nvPr/>
          </p:nvSpPr>
          <p:spPr>
            <a:xfrm>
              <a:off x="1492560" y="3181320"/>
              <a:ext cx="574560" cy="159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Don Casual"/>
              </a:endParaRPr>
            </a:p>
          </p:txBody>
        </p:sp>
        <p:sp>
          <p:nvSpPr>
            <p:cNvPr id="70" name="Freeform 10"/>
            <p:cNvSpPr/>
            <p:nvPr/>
          </p:nvSpPr>
          <p:spPr>
            <a:xfrm>
              <a:off x="1827360" y="4613400"/>
              <a:ext cx="1066680" cy="19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Don Casual"/>
              </a:endParaRPr>
            </a:p>
          </p:txBody>
        </p:sp>
        <p:sp>
          <p:nvSpPr>
            <p:cNvPr id="71" name="Freeform 11"/>
            <p:cNvSpPr/>
            <p:nvPr/>
          </p:nvSpPr>
          <p:spPr>
            <a:xfrm>
              <a:off x="1155960" y="4608720"/>
              <a:ext cx="718920" cy="2016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Don Casual"/>
              </a:endParaRPr>
            </a:p>
          </p:txBody>
        </p:sp>
        <p:grpSp>
          <p:nvGrpSpPr>
            <p:cNvPr id="72" name="Group 18"/>
            <p:cNvGrpSpPr/>
            <p:nvPr/>
          </p:nvGrpSpPr>
          <p:grpSpPr>
            <a:xfrm>
              <a:off x="1924200" y="1371600"/>
              <a:ext cx="441360" cy="595440"/>
              <a:chOff x="1924200" y="1371600"/>
              <a:chExt cx="441360" cy="595440"/>
            </a:xfrm>
          </p:grpSpPr>
          <p:sp>
            <p:nvSpPr>
              <p:cNvPr id="73" name="Freeform 13"/>
              <p:cNvSpPr/>
              <p:nvPr/>
            </p:nvSpPr>
            <p:spPr>
              <a:xfrm>
                <a:off x="2009880" y="1371600"/>
                <a:ext cx="355680" cy="41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Don Casual"/>
                </a:endParaRPr>
              </a:p>
            </p:txBody>
          </p:sp>
          <p:sp>
            <p:nvSpPr>
              <p:cNvPr id="74" name="Freeform 14"/>
              <p:cNvSpPr/>
              <p:nvPr/>
            </p:nvSpPr>
            <p:spPr>
              <a:xfrm>
                <a:off x="1924200" y="1854360"/>
                <a:ext cx="111240" cy="112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Don Casual"/>
                </a:endParaRPr>
              </a:p>
            </p:txBody>
          </p:sp>
        </p:grpSp>
        <p:sp>
          <p:nvSpPr>
            <p:cNvPr id="75" name="Freeform 26"/>
            <p:cNvSpPr/>
            <p:nvPr/>
          </p:nvSpPr>
          <p:spPr>
            <a:xfrm rot="992400">
              <a:off x="1839600" y="1443240"/>
              <a:ext cx="873360" cy="217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Don Casual"/>
              </a:endParaRPr>
            </a:p>
          </p:txBody>
        </p:sp>
      </p:grpSp>
    </p:spTree>
  </p:cSld>
  <p:transition>
    <p:cover dir="r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omic Sans MS"/>
              </a:rPr>
              <a:t>Back to Our Examples</a:t>
            </a: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1"/>
              </a:rPr>
              <a:t>http://www.essortment.com/all/pioneerwomenor_rzou.htm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2"/>
              </a:rPr>
              <a:t>http://www.memory.loc.gov/learn/features/women/women.html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3"/>
              </a:rPr>
              <a:t>http://www.legendsofamerica.com/WE-WomenList.html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4"/>
              </a:rPr>
              <a:t>http://www.ohiohistorycentral.org/entry.php?rec=591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5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6"/>
              </a:rPr>
              <a:t>http://hubpages.com/hub/Fearless-Women-Riders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7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7030a0"/>
                </a:solidFill>
                <a:latin typeface="Comic Sans MS"/>
              </a:rPr>
              <a:t>When?</a:t>
            </a:r>
            <a:endParaRPr b="1" lang="en-US" sz="88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79" name="Object 3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483000" cy="46483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91120" y="304560"/>
            <a:ext cx="4952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When was the site created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  <a:p>
            <a:pPr marL="420480" indent="-42048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When was it last updated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  <a:p>
            <a:pPr marL="420480" indent="-42048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Is the information included in the site current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  <a:p>
            <a:pPr marL="420480" indent="-42048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Does it matter if the information is current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zoom dir="ou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5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5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omic Sans MS"/>
              </a:rPr>
              <a:t>Back to Our Examples</a:t>
            </a: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1"/>
              </a:rPr>
              <a:t>http://www.essortment.com/all/pioneerwomenor_rzou.htm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2"/>
              </a:rPr>
              <a:t>http://www.memory.loc.gov/learn/features/women/women.html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3"/>
              </a:rPr>
              <a:t>http://www.legendsofamerica.com/WE-WomenList.html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4"/>
              </a:rPr>
              <a:t>http://www.ohiohistorycentral.org/entry.php?rec=591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5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6"/>
              </a:rPr>
              <a:t>http://hubpages.com/hub/Fearless-Women-Riders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7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7T01:40:18Z</dcterms:created>
  <dc:creator>Ross Garrett</dc:creator>
  <dc:description/>
  <dc:language>en-US</dc:language>
  <cp:lastModifiedBy> </cp:lastModifiedBy>
  <cp:lastPrinted>2000-03-27T04:34:43Z</cp:lastPrinted>
  <dcterms:modified xsi:type="dcterms:W3CDTF">2009-01-05T13:42:22Z</dcterms:modified>
  <cp:revision>69</cp:revision>
  <dc:subject/>
  <dc:title>FIVE W’S of WORLD WIDE WEB EVALUATION</dc:title>
</cp:coreProperties>
</file>