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2880" y="677520"/>
            <a:ext cx="451332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Don Casu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8F66-7849-4913-8003-7384B788CA75}" type="slidenum">
              <a:rPr b="0" lang="en-US" sz="1200" spc="-1" strike="noStrike">
                <a:solidFill>
                  <a:srgbClr val="000000"/>
                </a:solidFill>
                <a:latin typeface="Don Casu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on Casu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B2C9-F9E1-4451-BD52-641D2BE677F0}" type="slidenum">
              <a:rPr b="0" lang="en-US" sz="1200" spc="-1" strike="noStrike">
                <a:solidFill>
                  <a:srgbClr val="000000"/>
                </a:solidFill>
                <a:latin typeface="Don Casu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D81-7179-44CF-8122-633FC333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F2C-1E82-4FF0-972D-856437EF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262-17CF-4414-9AA4-EDC6FEBE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9C2-B8D1-46E1-945A-F26D773E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199-A802-4009-9EE2-AF894699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9F0-FDB3-4EE9-B82C-9B39546D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DD5-215E-4A54-ABD4-F1ED204F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375-2D30-49BE-B8C4-F13F2E91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96D-7756-4952-8108-3A4B399D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172-6741-4ECB-B9DA-3478488D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2F2-0BF5-4ED7-B3AD-B28AA499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A4C-F2D7-4BFF-8D90-C122D459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EFEB-899A-4FA2-9A92-739845658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on Casu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hyperlink" Target="http://www.legendsofamerica.com/WE-WomenList.html" TargetMode="External"/><Relationship Id="rId4" Type="http://schemas.openxmlformats.org/officeDocument/2006/relationships/hyperlink" Target="http://www.ohiohistorycentral.org/entry.php?rec=591" TargetMode="External"/><Relationship Id="rId5" Type="http://schemas.openxmlformats.org/officeDocument/2006/relationships/hyperlink" Target="http://www.essortment.com/all/pioneerwomenor_rzou.htm" TargetMode="External"/><Relationship Id="rId6" Type="http://schemas.openxmlformats.org/officeDocument/2006/relationships/hyperlink" Target="http://hubpages.com/hub/Fearless-Women-Riders" TargetMode="External"/><Relationship Id="rId7" Type="http://schemas.openxmlformats.org/officeDocument/2006/relationships/hyperlink" Target="http://www.essortment.com/all/pioneerwomenor_rzou.htm" TargetMode="Externa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hyperlink" Target="http://www.legendsofamerica.com/WE-WomenList.html" TargetMode="External"/><Relationship Id="rId4" Type="http://schemas.openxmlformats.org/officeDocument/2006/relationships/hyperlink" Target="http://www.ohiohistorycentral.org/entry.php?rec=591" TargetMode="External"/><Relationship Id="rId5" Type="http://schemas.openxmlformats.org/officeDocument/2006/relationships/hyperlink" Target="http://hubpages.com/hub/Fearless-Women-Riders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hyperlink" Target="http://www.legendsofamerica.com/WE-WomenList.html" TargetMode="External"/><Relationship Id="rId4" Type="http://schemas.openxmlformats.org/officeDocument/2006/relationships/hyperlink" Target="http://www.ohiohistorycentral.org/entry.php?rec=591" TargetMode="External"/><Relationship Id="rId5" Type="http://schemas.openxmlformats.org/officeDocument/2006/relationships/hyperlink" Target="http://www.essortment.com/all/pioneerwomenor_rzou.htm" TargetMode="External"/><Relationship Id="rId6" Type="http://schemas.openxmlformats.org/officeDocument/2006/relationships/hyperlink" Target="http://hubpages.com/hub/Fearless-Women-Riders" TargetMode="External"/><Relationship Id="rId7" Type="http://schemas.openxmlformats.org/officeDocument/2006/relationships/hyperlink" Target="http://www.essortment.com/all/pioneerwomenor_rzou.htm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ssortment.com/all/pioneerwomenor_rzou.htm" TargetMode="External"/><Relationship Id="rId2" Type="http://schemas.openxmlformats.org/officeDocument/2006/relationships/hyperlink" Target="http://www.memory.loc.gov/learn/features/women/women.html" TargetMode="External"/><Relationship Id="rId3" Type="http://schemas.openxmlformats.org/officeDocument/2006/relationships/hyperlink" Target="http://www.legendsofamerica.com/WE-WomenList.html" TargetMode="External"/><Relationship Id="rId4" Type="http://schemas.openxmlformats.org/officeDocument/2006/relationships/hyperlink" Target="http://www.ohiohistorycentral.org/entry.php?rec=591" TargetMode="External"/><Relationship Id="rId5" Type="http://schemas.openxmlformats.org/officeDocument/2006/relationships/hyperlink" Target="http://www.essortment.com/all/pioneerwomenor_rzou.htm" TargetMode="External"/><Relationship Id="rId6" Type="http://schemas.openxmlformats.org/officeDocument/2006/relationships/hyperlink" Target="http://hubpages.com/hub/Fearless-Women-Riders" TargetMode="External"/><Relationship Id="rId7" Type="http://schemas.openxmlformats.org/officeDocument/2006/relationships/hyperlink" Target="http://www.essortment.com/all/pioneerwomenor_rzou.ht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18288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Do you believe that </a:t>
            </a: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if information is </a:t>
            </a: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published on the web, </a:t>
            </a: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it must be correct AND/OR appropriate for research</a:t>
            </a: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Don Casu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7030a0"/>
                </a:solidFill>
                <a:latin typeface="Comic Sans MS"/>
              </a:rPr>
              <a:t>Where?</a:t>
            </a:r>
            <a:endParaRPr b="1" lang="en-US" sz="8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473560" cy="4648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38480" y="533160"/>
            <a:ext cx="5105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ere does the information come from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47840" indent="-44784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es the site contain a bibliography of where the information was learned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47840" indent="-44784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 the citations seem to be accurate/real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blinds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Back to Our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3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4"/>
              </a:rPr>
              <a:t>http://www.ohiohistorycentral.org/entry.php?rec=591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6"/>
              </a:rPr>
              <a:t>http://hubpages.com/hub/Fearless-Women-Riders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7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omic Sans MS"/>
              </a:rPr>
              <a:t>Why?</a:t>
            </a:r>
            <a:endParaRPr b="1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278748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19360" y="1522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y is the information useful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Is it thorough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y should I use this informa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Can I verify this informa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11480" indent="-411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es it answer your research ques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cover dir="l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Back to Our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ttp://www.ohiohistorycentral.org/entry.php?rec=591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ttp://hubpages.com/hub/Fearless-Women-Riders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Comic Sans MS"/>
              </a:rPr>
              <a:t>Cross</a:t>
            </a:r>
            <a:br>
              <a:rPr sz="8000"/>
            </a:br>
            <a:r>
              <a:rPr b="1" lang="en-US" sz="8000" spc="-1" strike="noStrike">
                <a:solidFill>
                  <a:srgbClr val="7030a0"/>
                </a:solidFill>
                <a:latin typeface="Comic Sans MS"/>
              </a:rPr>
              <a:t>Check</a:t>
            </a:r>
            <a:endParaRPr b="1" lang="en-US" sz="8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94" name="Object 3" descr=""/>
          <p:cNvPicPr/>
          <p:nvPr/>
        </p:nvPicPr>
        <p:blipFill>
          <a:blip r:embed="rId1"/>
          <a:stretch/>
        </p:blipFill>
        <p:spPr>
          <a:xfrm>
            <a:off x="0" y="2362320"/>
            <a:ext cx="2787480" cy="4495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14800" y="380520"/>
            <a:ext cx="5029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How can I cross check the informa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5160" indent="-42516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How does this material fit with what I already know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5160" indent="-42516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 other sources support this site’s information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5160" indent="-42516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 the linked sites reveal biases of the author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cover dir="l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omic Sans MS"/>
              </a:rPr>
              <a:t>THE FIVE W’S of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omic Sans MS"/>
              </a:rPr>
              <a:t>WEBSITE EVALUATION</a:t>
            </a:r>
            <a:endParaRPr b="1" lang="en-US" sz="5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0" name="TextBox 5"/>
          <p:cNvSpPr/>
          <p:nvPr/>
        </p:nvSpPr>
        <p:spPr>
          <a:xfrm rot="21125400">
            <a:off x="395640" y="3317760"/>
            <a:ext cx="175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o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51" name="TextBox 8"/>
          <p:cNvSpPr/>
          <p:nvPr/>
        </p:nvSpPr>
        <p:spPr>
          <a:xfrm rot="495600">
            <a:off x="1730160" y="4628880"/>
            <a:ext cx="195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at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3647160" y="3170160"/>
            <a:ext cx="210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en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53" name="TextBox 10"/>
          <p:cNvSpPr/>
          <p:nvPr/>
        </p:nvSpPr>
        <p:spPr>
          <a:xfrm rot="20489400">
            <a:off x="4738680" y="5043600"/>
            <a:ext cx="23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ere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  <p:sp>
        <p:nvSpPr>
          <p:cNvPr id="54" name="TextBox 11"/>
          <p:cNvSpPr/>
          <p:nvPr/>
        </p:nvSpPr>
        <p:spPr>
          <a:xfrm rot="709200">
            <a:off x="6840720" y="3747960"/>
            <a:ext cx="170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Don Casual"/>
            </a:endParaRPr>
          </a:p>
        </p:txBody>
      </p:sp>
    </p:spTree>
  </p:cSld>
  <p:transition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281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omic Sans MS"/>
              </a:rPr>
              <a:t>Who</a:t>
            </a:r>
            <a:endParaRPr b="1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304920" y="1295280"/>
          <a:ext cx="23382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23382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8640" y="38052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Who  sponsors the web page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Are they an expert in the field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Does the site contain a bibliography on the author or sponsoring organization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Is there contact information given -- email, phone, or address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Examples of GOOD and QUESTIONABLE Sourc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1980720"/>
            <a:ext cx="4496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radley Hand ITC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Encyclopedia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US Government Sponsored organization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Universitie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Museum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79704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Acceptable News Source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4" marL="127548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PB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4" marL="127548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MSNBC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4" marL="127548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CNN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4" marL="127548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New York Time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1" marL="425160" indent="-42516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Bradley Hand ITC"/>
              </a:rPr>
              <a:t>QUESTIONABLE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lvl="2" marL="857160" indent="-45720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Individuals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857160" indent="-45720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Groups on one side of a controversy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 lvl="2" marL="857160" indent="-457200">
              <a:spcBef>
                <a:spcPts val="601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Bradley Hand ITC"/>
              </a:rPr>
              <a:t>No information given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Let’s Look at Some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3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4"/>
              </a:rPr>
              <a:t>http://www.ohiohistorycentral.org/entry.php?rec=591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5"/>
              </a:rPr>
              <a:t>http://hubpages.com/hub/Fearless-Women-Riders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3886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omic Sans MS"/>
              </a:rPr>
              <a:t>What</a:t>
            </a:r>
            <a:endParaRPr b="1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9880" y="304920"/>
            <a:ext cx="51055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What is the stated purpose of the site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Is the site biased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Is the site fact or opinion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Does the site contain words that try to persuade rather than inform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415800" indent="-415800">
              <a:spcBef>
                <a:spcPts val="799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Bradley Hand ITC"/>
              </a:rPr>
              <a:t>Is the site meant to educate or to sell a product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grpSp>
        <p:nvGrpSpPr>
          <p:cNvPr id="66" name="Group 33"/>
          <p:cNvGrpSpPr/>
          <p:nvPr/>
        </p:nvGrpSpPr>
        <p:grpSpPr>
          <a:xfrm>
            <a:off x="457200" y="1364040"/>
            <a:ext cx="2547720" cy="5260680"/>
            <a:chOff x="457200" y="1364040"/>
            <a:chExt cx="2547720" cy="5260680"/>
          </a:xfrm>
        </p:grpSpPr>
        <p:sp>
          <p:nvSpPr>
            <p:cNvPr id="67" name="Freeform 6"/>
            <p:cNvSpPr/>
            <p:nvPr/>
          </p:nvSpPr>
          <p:spPr>
            <a:xfrm>
              <a:off x="1233720" y="2046240"/>
              <a:ext cx="954000" cy="10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457200" y="1774800"/>
              <a:ext cx="1098720" cy="169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492560" y="3181320"/>
              <a:ext cx="574560" cy="159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sp>
          <p:nvSpPr>
            <p:cNvPr id="70" name="Freeform 10"/>
            <p:cNvSpPr/>
            <p:nvPr/>
          </p:nvSpPr>
          <p:spPr>
            <a:xfrm>
              <a:off x="1827360" y="4613400"/>
              <a:ext cx="1066680" cy="19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sp>
          <p:nvSpPr>
            <p:cNvPr id="71" name="Freeform 11"/>
            <p:cNvSpPr/>
            <p:nvPr/>
          </p:nvSpPr>
          <p:spPr>
            <a:xfrm>
              <a:off x="1155960" y="4608720"/>
              <a:ext cx="718920" cy="201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  <p:grpSp>
          <p:nvGrpSpPr>
            <p:cNvPr id="72" name="Group 18"/>
            <p:cNvGrpSpPr/>
            <p:nvPr/>
          </p:nvGrpSpPr>
          <p:grpSpPr>
            <a:xfrm>
              <a:off x="1924200" y="1371600"/>
              <a:ext cx="441360" cy="595440"/>
              <a:chOff x="1924200" y="1371600"/>
              <a:chExt cx="441360" cy="595440"/>
            </a:xfrm>
          </p:grpSpPr>
          <p:sp>
            <p:nvSpPr>
              <p:cNvPr id="73" name="Freeform 13"/>
              <p:cNvSpPr/>
              <p:nvPr/>
            </p:nvSpPr>
            <p:spPr>
              <a:xfrm>
                <a:off x="2009880" y="1371600"/>
                <a:ext cx="355680" cy="41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Don Casual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1924200" y="1854360"/>
                <a:ext cx="111240" cy="11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Don Casual"/>
                </a:endParaRPr>
              </a:p>
            </p:txBody>
          </p:sp>
        </p:grpSp>
        <p:sp>
          <p:nvSpPr>
            <p:cNvPr id="75" name="Freeform 26"/>
            <p:cNvSpPr/>
            <p:nvPr/>
          </p:nvSpPr>
          <p:spPr>
            <a:xfrm rot="992400">
              <a:off x="1839600" y="1443240"/>
              <a:ext cx="873360" cy="217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Don Casual"/>
              </a:endParaRPr>
            </a:p>
          </p:txBody>
        </p:sp>
      </p:grpSp>
    </p:spTree>
  </p:cSld>
  <p:transition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Back to Our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3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4"/>
              </a:rPr>
              <a:t>http://www.ohiohistorycentral.org/entry.php?rec=591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6"/>
              </a:rPr>
              <a:t>http://hubpages.com/hub/Fearless-Women-Riders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7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omic Sans MS"/>
              </a:rPr>
              <a:t>When?</a:t>
            </a:r>
            <a:endParaRPr b="1" lang="en-US" sz="88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79" name="Object 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483000" cy="4648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1120" y="304560"/>
            <a:ext cx="4952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en was the site created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0480" indent="-420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When was it last updated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0480" indent="-420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Is the information included in the site current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  <a:p>
            <a:pPr marL="420480" indent="-420480">
              <a:spcBef>
                <a:spcPts val="850"/>
              </a:spcBef>
              <a:buClr>
                <a:srgbClr val="0070c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70c0"/>
                </a:solidFill>
                <a:latin typeface="Bradley Hand ITC"/>
              </a:rPr>
              <a:t>Does it matter if the information is current?</a:t>
            </a:r>
            <a:endParaRPr b="0" lang="en-US" sz="3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Back to Our Examples</a:t>
            </a:r>
            <a:endParaRPr b="1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1"/>
              </a:rPr>
              <a:t>http://www.essortment.com/all/pioneerwomenor_rzou.htm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2"/>
              </a:rPr>
              <a:t>http://www.memory.loc.gov/learn/features/women/women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3"/>
              </a:rPr>
              <a:t>http://www.legendsofamerica.com/WE-WomenList.html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4"/>
              </a:rPr>
              <a:t>http://www.ohiohistorycentral.org/entry.php?rec=591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6"/>
              </a:rPr>
              <a:t>http://hubpages.com/hub/Fearless-Women-Riders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Bradley Hand ITC"/>
                <a:hlinkClick r:id="rId7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01:40:18Z</dcterms:created>
  <dc:creator>Ross Garrett</dc:creator>
  <dc:description/>
  <dc:language>en-US</dc:language>
  <cp:lastModifiedBy> </cp:lastModifiedBy>
  <cp:lastPrinted>2000-03-27T04:34:43Z</cp:lastPrinted>
  <dcterms:modified xsi:type="dcterms:W3CDTF">2009-01-05T13:42:22Z</dcterms:modified>
  <cp:revision>69</cp:revision>
  <dc:subject/>
  <dc:title>FIVE W’S of WORLD WIDE WEB EVALUATION</dc:title>
</cp:coreProperties>
</file>