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D7F-9AE2-42CC-A6B2-23C8C7F5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8ED-1A5D-46FD-81CE-9884EA1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F82-7784-4056-A8C8-4CDC4292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728-00D3-4489-942D-2547C88B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DFA0-16A5-43D8-A858-9C7804F4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3EB1-B547-420D-94D3-133A34A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D9CE-BA52-475B-AA36-F48D5948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7673-C613-4B35-A8B0-18885364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B7D7-8DBC-402A-B09A-2D244FEE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632-1746-43FF-A497-75A3A145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A021-F47F-4247-93D0-B346447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66E-FD1B-4065-92E0-FA9476D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FFF8-EC04-4E89-AF13-86A4022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008F-FA48-41BF-80EE-43DBDC7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9875-374F-41FF-A68B-C2DBB243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6241-D80D-488C-9A9A-8631D42F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B6B7-62F8-46DF-AD46-A7253F6E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4D6-5D7C-4A2A-A14D-7139F6F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5E1-1974-4F7B-9CE9-E41F46F4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775-0EAE-4EFF-9ABB-AED11F26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C2C-E67C-4DE1-82AD-48836036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833-F088-4084-B5E5-E43E6D39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02D-7B2F-4877-9B3F-03E4827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830-F11A-4EEA-B2DF-09F31DB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551A-579F-4F84-BA3E-C374BF4FBD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9D7-6326-47CE-81A9-49565408C27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cpierson@myholyfamilyschoo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elcome to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ood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276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nthia Pi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ly Family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oenixville, P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les in Moodl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– oversees and sets up classe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– assigned to classes and can add to and edit as well as grade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– can upload list or individual – can limit classes using a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3726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editing on and get star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give your students –Ad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r students give you – Add a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883944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5800" y="3580920"/>
            <a:ext cx="43434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imple directions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 plain text o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colors and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ictures or cli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 file or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pload many types of documents – Word, Power Point, PDF,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videos including United Streaming vide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6629400" cy="729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7524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for my students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62120" y="3809880"/>
            <a:ext cx="373356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lick and they are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readcru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1904760"/>
            <a:ext cx="2743200" cy="2361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181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you wher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33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t in Mood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-914400"/>
            <a:ext cx="853452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rtual learning environment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urse management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my students give me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43200" y="-228600"/>
            <a:ext cx="7620120" cy="746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2362320"/>
            <a:ext cx="533376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n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upload a document then go home and acc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 documents sent to teacher who ca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can open student’s work to view – great for Primary gra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ost cds or jump dr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per and ink 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“my printer wasn’t working” exc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hare work with par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2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4197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80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57800"/>
            <a:ext cx="609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9436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324480"/>
            <a:ext cx="533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t and For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 – can set up date and time for students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– students can respond to ideas – can be used in a variety of ways – students can reply to teacher 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diting t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t up variety of wikiis and assig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 student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date and time studen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urse Management Syst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”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t up classes and hide them from your students until you are 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your work from one year to the next! Just update from year to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1752480"/>
            <a:ext cx="289584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2819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38480" y="5257440"/>
            <a:ext cx="28958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371600"/>
            <a:ext cx="1676160" cy="762120"/>
          </a:xfrm>
          <a:custGeom>
            <a:avLst/>
            <a:gdLst>
              <a:gd name="textAreaLeft" fmla="*/ 0 w 1676160"/>
              <a:gd name="textAreaRight" fmla="*/ 1676520 w 167616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410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unity where everyone can contribu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improving and c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there is more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nline tutorials to help you “Moodl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ways to use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community of Mood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indy Piers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ly Family Schoo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21 Third Av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enixville, PA 1946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58672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eel free to contac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ierson@myholyfamilyscho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 of Mood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ine – can be accessed from home, school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ty of materials can be uploaded – PowerPoint, Word, PDF, Excel, video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 and password prot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nk to websit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udents can store and retrieve files as well as send files to their teach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se as electronic file cabin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until ready and add material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tting Started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oodle to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up an 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 and set up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 up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4:42:20Z</dcterms:created>
  <dc:creator> </dc:creator>
  <dc:description/>
  <dc:language>en-US</dc:language>
  <cp:lastModifiedBy>Pierson</cp:lastModifiedBy>
  <dcterms:modified xsi:type="dcterms:W3CDTF">2009-01-15T01:45:13Z</dcterms:modified>
  <cp:revision>5</cp:revision>
  <dc:subject/>
  <dc:title>Welcome to Moodle</dc:title>
</cp:coreProperties>
</file>