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ACD-FDA9-4E0B-A286-3A80E840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2E7-B90D-4421-9356-9EF5D317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2DD-8770-4B41-A4B3-1947ABFD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246-9D97-43DD-8C4F-79A04832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4A55-A1F8-4824-ABEA-53926E3F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244D-0146-4FD3-B112-A8E5FB44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44D5-9BBC-4C89-BC19-2621591A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E722-6665-4EC7-BE3A-2B4C5424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7324-1D01-430A-AC2F-E7F2AF62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4CC3-1154-408C-807C-4E5E0388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ABED-6F36-45C1-9FDF-1D5DC8DA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515-7192-473F-96A7-7AF86510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816C-2A14-4671-8667-F8A85E0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6080-542B-4AB9-A178-8EC7EA35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1CEC-4F0F-4299-8E71-1F6BA079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429A-9729-476E-9CD6-8C04FC55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314E-C77E-49A0-A56E-3D9682CA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CBD-128F-4713-BFC0-67506858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A0D-7E99-4C22-AEE3-CC1D6A8A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E31-AE8E-4EAD-8138-F25F8E0E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B0B-30B0-495D-AC94-D268E2DB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7FC-BEF1-4E8F-8738-2F76930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876-9852-40CB-B1B5-D36A42A8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36F-123E-4DC5-9EF9-6E922DF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2D8-4DCB-46A4-B764-F12179F4BF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292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707A-3948-4B42-A23D-280D594158A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cpierson@myholyfamilyschoo.org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292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Welcome to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ood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276360"/>
            <a:ext cx="3886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ynthia Pier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oly Family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oenixville, P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les in Moodle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or – oversees and sets up classe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– assigned to classes and can add to and edit as well as grade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– can upload list or individual – can limit classes using a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37260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editing on and get star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give your students –Add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r students give you – Add a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883944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5800" y="3580920"/>
            <a:ext cx="434340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simple directions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in plain text or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re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hange colors and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ictures or clip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a file or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pload many types of documents – Word, Power Point, PDF,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ink to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ink to videos including United Streaming vide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4080" y="-122400"/>
            <a:ext cx="6629400" cy="729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175248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ites for my students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62120" y="3809880"/>
            <a:ext cx="373356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334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lick and they are t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96216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readcru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90720" y="1904760"/>
            <a:ext cx="2743200" cy="2361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181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w you where you 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335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st in Mood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86200" y="-914400"/>
            <a:ext cx="853452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odle is 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rtual learning environment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ourse management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can my students give me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43200" y="-228600"/>
            <a:ext cx="7620120" cy="7467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47920" y="2362320"/>
            <a:ext cx="533376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9718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an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ign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upload a document then go home and acc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ed documents sent to teacher who ca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can open student’s work to view – great for Primary grad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lost cds or jump dr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per and ink u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“my printer wasn’t working” exc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share work with par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2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38080" y="35812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44197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80060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5257800"/>
            <a:ext cx="609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94360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6324480"/>
            <a:ext cx="5331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t and Foru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 – can set up date and time for students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 – students can respond to ideas – can be used in a variety of ways – students can reply to teacher or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iki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diting t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t up variety of wikiis and assig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 student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date and time studen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urse Management Syste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”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et up classes and hide them from your students until you are re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your work from one year to the next! Just update from year to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1752480"/>
            <a:ext cx="289584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581280"/>
            <a:ext cx="28195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038480" y="5257440"/>
            <a:ext cx="28958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12408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371600"/>
            <a:ext cx="1676160" cy="762120"/>
          </a:xfrm>
          <a:custGeom>
            <a:avLst/>
            <a:gdLst>
              <a:gd name="textAreaLeft" fmla="*/ 0 w 1676160"/>
              <a:gd name="textAreaRight" fmla="*/ 1676520 w 167616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541008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odle 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source an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munity where everyone can contribu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always improving and c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there is more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nline tutorials to help you “Moodle”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ways to use Moo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ing community of Moodl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indy Piers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ly Family Schoo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21 Third Ave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oenixville, PA 19460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58672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feel free to contact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pierson@myholyfamilyscho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nefits of Mood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line – can be accessed from home, school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ty of materials can be uploaded – PowerPoint, Word, PDF, Excel, videos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name and password prot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ink to websit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tudents can store and retrieve files as well as send files to their teache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Use as electronic file cabine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ide until ready and add material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tting Started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 Moodle to h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up an Administ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 and set up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58672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 up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4:42:20Z</dcterms:created>
  <dc:creator> </dc:creator>
  <dc:description/>
  <dc:language>en-US</dc:language>
  <cp:lastModifiedBy>Pierson</cp:lastModifiedBy>
  <dcterms:modified xsi:type="dcterms:W3CDTF">2009-01-15T01:45:13Z</dcterms:modified>
  <cp:revision>5</cp:revision>
  <dc:subject/>
  <dc:title>Welcome to Moodle</dc:title>
</cp:coreProperties>
</file>