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AB3-F1FB-4C87-95DE-46CF398A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7BA-9080-4311-8C80-49E8E2A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EDD-D61D-4153-85B0-55103EB9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BF5-F64F-40F1-AA72-DA68BF1E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68F7-2FFB-403E-8402-D1EB3066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10FC-0B96-4176-8A74-45F9449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555F-34EA-4C54-A267-7D559196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D3D-92BA-4FDB-8D13-AA143D54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D877-BFAB-4B4F-95BE-3D9571D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88CC-A22D-4B78-957C-6DF907B1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4E25-7BD2-410A-A6B7-0431167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30E-6261-4DFB-91FF-999D2ED9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F9D4-3A68-44BC-865B-8A11952A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9D0C-9073-4A3F-BE11-BB37944F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9B6A-854C-4F22-B4C5-DB21FB4D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5C0A-5FDA-4B3D-A082-BB320A4C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852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72480" y="152388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28852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272480" y="3888000"/>
            <a:ext cx="188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E82E-2FF2-4CD4-8884-704EEA94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1BB-A70E-4EB0-A840-7C598E5A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43A-6388-4FFC-93AA-D5BF83B6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33B-BDF9-4F67-B053-C74066D8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5867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CAC-5E97-48F9-9F4B-7A8986E2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75B-D28B-468D-A381-B17D130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11640" y="388800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28F-CEFF-4D46-8CEA-1C2C37D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1640" y="1523880"/>
            <a:ext cx="286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586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8FF-465F-4732-84E9-03CE4833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E83-C2AB-4EDD-B778-E5D0AB6971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31A9-A37D-44F1-8F30-FC9CB7D4F51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cpierson@myholyfamilyschoo.org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292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Welcome to</a:t>
            </a:r>
            <a:br>
              <a:rPr sz="6000"/>
            </a:b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Mood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276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nthia Pie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oly Family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oenixville, P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les in Moodle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or – oversees and sets up classe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– assigned to classes and can add to and edit as well as grade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– can upload list or individual – can limit classes using a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37260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can you do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editing on and get star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give your students –Ad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r students give you – Add a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883944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5800" y="3580920"/>
            <a:ext cx="43434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simple directions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in plain text or 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re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hange colors and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ictures or cli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a file or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pload many types of documents – Word, Power Point, PDF,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ink to videos including United Streaming vide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-122400"/>
            <a:ext cx="6629400" cy="729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75248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ites for my students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62120" y="3809880"/>
            <a:ext cx="373356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lick and they are t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96216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readcru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1904760"/>
            <a:ext cx="2743200" cy="2361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181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w you where you 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33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t in Mood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6200" y="-914400"/>
            <a:ext cx="853452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 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rtual learning environment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ourse management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can my students give me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43200" y="-228600"/>
            <a:ext cx="7620120" cy="746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2362320"/>
            <a:ext cx="533376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 an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upload a document then go home and acc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 documents sent to teacher who ca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can open student’s work to view – great for Primary grad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lost cds or jump dr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per and ink u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ore “my printer wasn’t working” exc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share work with par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2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35812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4197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80060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257800"/>
            <a:ext cx="609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94360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324480"/>
            <a:ext cx="5331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at and Foru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 – can set up date and time for students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um – students can respond to ideas – can be used in a variety of ways – students can reply to teacher or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iki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diting t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t up variety of wikiis and assign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 student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date and time studen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urse Management System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”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et up classes and hide them from your students until you are re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your work from one year to the next! Just update from year to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1752480"/>
            <a:ext cx="289584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581280"/>
            <a:ext cx="28195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038480" y="5257440"/>
            <a:ext cx="28958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124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371600"/>
            <a:ext cx="1676160" cy="762120"/>
          </a:xfrm>
          <a:custGeom>
            <a:avLst/>
            <a:gdLst>
              <a:gd name="textAreaLeft" fmla="*/ 0 w 1676160"/>
              <a:gd name="textAreaRight" fmla="*/ 1676520 w 167616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541008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odle i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source an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unity where everyone can contribu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always improving and c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there is more…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nline tutorials to help you “Moodle”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ways to use M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community of Moodl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indy Piers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ly Family Schoo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21 Third Ave.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hoenixville, PA 19460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4038120"/>
            <a:ext cx="58672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feel free to contac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pierson@myholyfamilyscho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nefits of Mood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line – can be accessed from home, school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ety of materials can be uploaded – PowerPoint, Word, PDF, Excel, videos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name and password prot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ink to websit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udents can store and retrieve files as well as send files to their teache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Use as electronic file cabine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ide until ready and add material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tting Started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 Moodle to h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up an 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 and set up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58672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 up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4:42:20Z</dcterms:created>
  <dc:creator> </dc:creator>
  <dc:description/>
  <dc:language>en-US</dc:language>
  <cp:lastModifiedBy>Pierson</cp:lastModifiedBy>
  <dcterms:modified xsi:type="dcterms:W3CDTF">2009-01-15T01:45:13Z</dcterms:modified>
  <cp:revision>5</cp:revision>
  <dc:subject/>
  <dc:title>Welcome to Moodle</dc:title>
</cp:coreProperties>
</file>