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A9B-6969-4511-8754-A64E17BD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E63-36A8-4DC4-83E1-952FE832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B63C-DCE8-4974-9F77-57B40333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3E1-C964-46FF-9D9E-803412A6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FEAA-2273-48AE-963F-51E13A70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853E-C08C-4937-BC9A-7396F44F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80BF-AADE-4A42-820C-8C215095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5F1E-ADAF-4681-9266-F6797222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1E3A-6BA1-45AF-AFB4-ED0242D2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2096-90CD-476E-AE6C-504C21C9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0295-7C8B-4F4D-B42C-C71C09AB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ACD-502D-4A65-9BE9-797F7275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3158-682A-467E-AE99-823C1245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26ED-BF34-4CB4-815A-D4B89DE2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27F3-155B-456A-AA81-8343F04B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AADF-887D-420A-AAD3-55389FC8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E28B-F0A1-4071-977E-5CD492D0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B7A-B5A3-4A85-AE3B-AF1D416B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836-B4DC-463D-B9F2-6A67BAC6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C1C-639D-4B68-939A-6CDFFE58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4AF-9DC4-40D7-8D83-9165B9DF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1DE-A140-4BB6-8533-463AD134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E8F-AB6C-4070-A5B3-BA025634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E49-A7AD-494B-967A-30731A4F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48C4-57F5-4FD3-B392-F749E39994C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292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18F8-3893-45FF-8025-18427D8AAE65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cpierson@myholyfamilyschoo.org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292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Welcome to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oodl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3276360"/>
            <a:ext cx="3886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ynthia Pier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oly Family Sch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hoenixville, P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les in Moodle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or – oversees and sets up classes 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– assigned to classes and can add to and edit as well as grade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– can upload list or individual – can limit classes using a 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372600" cy="71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editing on and get star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ain s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give your students –Add a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r students give you – Add an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883944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5800" y="3580920"/>
            <a:ext cx="4343400" cy="129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ources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ex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 simple directions 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one in plain text or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re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hange colors and fo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ictures or clip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a file or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pload many types of documents – Word, Power Point, PDF,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ink to 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ink to videos including United Streaming vide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24080" y="-122400"/>
            <a:ext cx="6629400" cy="729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1752480"/>
            <a:ext cx="28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sites for my students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62120" y="3809880"/>
            <a:ext cx="373356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334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click and they are t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962160"/>
            <a:ext cx="586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readcrum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990720" y="1904760"/>
            <a:ext cx="2743200" cy="2361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1814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w you where you 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5335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st in Mood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86200" y="-914400"/>
            <a:ext cx="853452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odle is 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irtual learning environment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ourse management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can my students give me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43200" y="-228600"/>
            <a:ext cx="7620120" cy="7467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47920" y="2362320"/>
            <a:ext cx="533376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9718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 an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ssign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upload a document then go home and acc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ed documents sent to teacher who can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can open student’s work to view – great for Primary grad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nefits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lost cds or jump dr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per and ink u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“my printer wasn’t working” exc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share work with par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229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38080" y="3581280"/>
            <a:ext cx="5335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44197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80060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5257800"/>
            <a:ext cx="609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594360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6324480"/>
            <a:ext cx="5331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at and Foru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 – can set up date and time for students to commu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um – students can respond to ideas – can be used in a variety of ways – students can reply to teacher or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iki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editing t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et up variety of wikiis and assign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 student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date and time studen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urse Management System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”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set up classes and hide them from your students until you are re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your work from one year to the next! Just update from year to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3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038480" y="1752480"/>
            <a:ext cx="289584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3581280"/>
            <a:ext cx="28195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038480" y="5257440"/>
            <a:ext cx="28958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3124080"/>
            <a:ext cx="1676520" cy="762120"/>
          </a:xfrm>
          <a:custGeom>
            <a:avLst/>
            <a:gdLst>
              <a:gd name="textAreaLeft" fmla="*/ 0 w 1676520"/>
              <a:gd name="textAreaRight" fmla="*/ 1676880 w 16765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1371600"/>
            <a:ext cx="1676160" cy="762120"/>
          </a:xfrm>
          <a:custGeom>
            <a:avLst/>
            <a:gdLst>
              <a:gd name="textAreaLeft" fmla="*/ 0 w 1676160"/>
              <a:gd name="textAreaRight" fmla="*/ 1676520 w 167616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5410080"/>
            <a:ext cx="1676520" cy="762120"/>
          </a:xfrm>
          <a:custGeom>
            <a:avLst/>
            <a:gdLst>
              <a:gd name="textAreaLeft" fmla="*/ 0 w 1676520"/>
              <a:gd name="textAreaRight" fmla="*/ 1676880 w 16765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odle 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source and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munity where everyone can contribu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always improving and c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there is more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nline tutorials to help you “Moodle”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of ways to use Moo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ing community of Moodl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indy Pierso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ly Family Schoo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21 Third Ave.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hoenixville, PA 19460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4038120"/>
            <a:ext cx="58672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feel free to contact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pierson@myholyfamilyscho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nefits of Mood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line – can be accessed from home, school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ty of materials can be uploaded – PowerPoint, Word, PDF, Excel, videos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 name and password prot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Link to websit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tudents can store and retrieve files as well as send files to their teache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Use as electronic file cabine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ide until ready and add materials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tting Started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 Moodle to h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up an Administ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e and set up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58672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t up cla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1T14:42:20Z</dcterms:created>
  <dc:creator> </dc:creator>
  <dc:description/>
  <dc:language>en-US</dc:language>
  <cp:lastModifiedBy>Pierson</cp:lastModifiedBy>
  <dcterms:modified xsi:type="dcterms:W3CDTF">2009-01-15T01:45:13Z</dcterms:modified>
  <cp:revision>5</cp:revision>
  <dc:subject/>
  <dc:title>Welcome to Moodle</dc:title>
</cp:coreProperties>
</file>