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A1E4F-45BD-46A5-BCFA-2E8AE5C9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7BB2-1374-47C7-975F-DABDECA63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0419E59-2AE9-4CF9-9B7E-0BBAAB9301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E57E300-8431-45A9-9366-E5D1F6758A6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9CCB14A-258C-4B0C-BEE2-11E7F23591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68D2C9C-D403-4940-A425-B52900EF97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89FD5DA-BB49-48A6-B05A-BDE4AC4DC8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04161E2-951A-4918-9983-4816F31FB7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CCA4D96-F59B-4D24-9102-63EBB75A77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B9FFDCF-EC0A-4AC1-90E1-A16726B3244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A3BEE74-18E9-4976-9E3B-7CC16CF165E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94D4C4D-2E94-48C3-8E72-01C08D89F7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5A1EC-403D-40EB-9783-F595766B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CD208BC-35BE-4290-A56A-7DBA4D1409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0D46B6A-9AD9-4019-8E6E-2B739C22F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2B53B2C-B825-49DB-A5BD-A2FF43E84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CC5C93-4A60-47ED-9E01-559070E8E2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E182948-E187-4390-96CE-2A43EDBDF0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513337B-3A8F-4FA8-A0BF-26F2730FF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47D71A-B2FA-4674-B5F0-8D0DBD71E8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93004C-41D0-4248-8227-06193F36C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4ECD9E-46D8-43F7-ABA1-E57D58AF62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D611CC-E67C-490D-A746-F442BDD72E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F3DBF-A7FA-4311-9ED4-801957858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19BFD17-DB6B-4689-8860-6C03792D34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A1901E-0021-4D23-9A9F-C15C7B8EE3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2561F0-95A2-4763-9B71-74D8216886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B137AB-BFD4-4F72-8A6A-396A4ACF93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69E19B-0373-41FF-B03E-6B43F474B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8BCF93-C25D-41A2-AF77-A680C559A9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F2C987-162F-4F32-A50E-4F4E2B22EC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F4FA5E-B049-4379-A196-3175B60C83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BD7E72-189C-4C8E-9285-8097C72AB1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30C42-2F99-4C41-A13D-E0B96ADB81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5EB8A-6DFB-4B60-9C9D-1877D6CA1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26ACF-E031-4C11-99C5-80928B32CA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82406A-4537-45DF-91F4-EF5407999A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1DE1B7-68E1-444D-A689-B8FEF354A0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0C96EE4-2F08-41AC-B571-71DF925789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BCB4B6-7B9F-4DA8-8FCE-5BEDA8CA02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29AC76A-1D16-4CC3-8146-3AE2969714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65705C-AED3-44C3-948E-160A8DDCE7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2B5B35-22DC-45FC-9E55-54BCD00485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6A204C-4286-4197-8639-AE3C5DA29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EB22AB-6AA6-4E44-B526-A45D5F077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D1325-D34D-4EB1-BDE6-B544E3CC6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E35F08-6036-4574-A9E1-216AF8AA33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2BE3387-E635-4584-B3EE-3B1C9489EC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634DF8-C348-4ACD-BFD8-11AC0AE0E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0E10456-CBFE-4246-8985-00EF454FB8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0EC00CE-F040-4AB9-B807-C7DB3A6EB5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BCD30-3C2F-49D9-8F18-15A255EAF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86F17-2145-4B02-9B2F-AEDD9EA4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EAD62-7CBB-4747-82B6-673D9FDE4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70F70-D07A-4A08-AEB6-2F8940193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60696-45E9-47DC-9872-2CCE64D62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325D-C412-4A4D-8C5D-07C9D052D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41BFE-0594-4191-8F11-61903CC51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0089A-6F22-44F7-98A5-7F6CD547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95692-AABA-48D3-86AE-47B4EC6AF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7A25C-D6D9-4E8D-9A5A-3C80475A8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DBA35-9617-4039-9C18-3D215C130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E6265-430C-418A-BC96-225C4948F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9C5B4-18A4-445F-A72F-12667E913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11033-A7B1-4B1E-BEF6-A6EAB8AFE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4B917-C441-4B7A-A659-C10703C60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F052E-AFC2-4AF7-82A0-84B1CE27D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2A03-6A5B-49AC-AC2F-599CCAC3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5A6A3-5AD0-4107-AA5F-06D80D8EB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9264A-F753-418A-B084-0C21CC736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4AE32-E22C-49CD-866C-F963E95D3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24F14-D82B-498B-ACE6-291214F48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EEDF5-8089-44D6-89EE-FE5838F90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94157-42B6-46C9-983C-5B215E8F4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85A8D-076D-4286-9F3E-4A4B824D8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5E064D4-10F6-4A31-9F50-784B1A70417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5186EBD-0536-4348-B08B-E0EF94FD0C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2B980D8-AA0D-4912-A8C8-A6C0DBD7CA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26EA-BFE9-4045-AD83-D47A7EB2B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BBD6364-5D97-420B-BAA4-5B48587F33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8A0026C-1229-4386-8654-2BF7759C70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8F5786C-08C5-4E02-9CD0-46A0584634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1B64CC-7D20-4D9D-96FC-6E582C7D0D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7B34F0-74C7-414E-A7BC-06B3C0D2C2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1FF6668-A38F-4B9E-9243-973CD3EB81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DB2E1E-B2AC-4A0F-BCC1-E248F42F3A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706C6A3-11B5-49DA-BB60-A0246376262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13C216A-FCD2-41DF-A76E-29B599AA466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F21EB-4B69-4009-8D50-78681E926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A2892-DF9F-4839-9D14-5E3C02B6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B4C8D-3506-4AB2-8BAC-4D441CE11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2489C-7185-4213-B922-C41A2B1B9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17FDE-9306-4DFF-B88B-35E31151A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AFB91-2081-4892-86A6-9607BFC25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331F4-4144-4428-84E1-C67FAE908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65829-15AD-4BDC-A767-9B8236305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662AC-4F7C-4CB2-9202-5BEE8E8D5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3E9FC-33F1-461E-9E50-9E83E25D9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5211B-D38E-438B-87AD-180BC65AF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73528-43BB-4EEE-B96B-FB2693137E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EC7F-DEF2-40BD-AC3C-C497AEC0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BAD605-B603-42DF-BE86-0FBDFB3248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D43E96-D6CA-4AAA-8826-63ED9B956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BC4C7-DF94-46ED-87D3-459CB378B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0B3E7-A963-4FE8-862E-68951939C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27F7D-C1B4-498E-9441-4B53043FA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7E93C-EF15-4CEE-8E7E-AFB858065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EF94D-7CD8-4CDE-9E29-1E8A34AD5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5A37BF-F668-4E4A-963D-384E7814C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01E07-3DC7-49B7-BC88-B25324B47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0E59F-8817-49D3-A617-524F7BC6F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18DC2-83D9-4C21-9ED3-4FBDE43A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76450-BBFB-4D75-B705-041F295AC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34ABB-36A9-46B7-8F6B-5363C0330A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8C7F47-8A1E-4912-8703-0B9D139059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AE3007-B831-483A-8FCD-C8CD44ADD9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5BBA3-D4DD-435F-89F5-95CE4459DF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0FB17-8A61-4AD9-81F5-C9BED7B49F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EEB40-DC4F-4AFB-9CE0-E63BE8CDF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F0D75-3650-432B-95F2-A147482D9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682BA-272B-4F2B-AC8F-0A951E62BC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34486-F6EC-4453-A9C2-26D897A54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7F5D-4D0A-4FEF-813D-9B5836FB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DFF89-780F-476D-8FCD-7D70E6819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EF001-9ABD-4A8E-8C7A-9AD61838E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7B490-F7E4-40ED-8DDD-57C44222B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721A2-895B-49BD-8C14-1CA5848016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5D14C9-42CD-424B-A79B-CE3B8A7F0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55A5B5-BBD9-4AC9-AD37-DC2C7730CD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4F843-A73B-4542-8470-F5AC1A4333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930F6-174C-4567-A6ED-7B47FA58F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AFA84-6CB0-45D1-8933-1B9BA6E8F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6EBCE-75E5-47DD-A454-AE09E1581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BB5E-FFE6-4AE1-9D4A-9752C02C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3C781-67CC-4284-9D14-5426CFB7C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CC3E4-3EFA-4353-9BBA-09FF8437B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1B836-FCC4-4E64-BB12-FC43C0BFF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989BE-72D7-464C-A53B-6AFE065C2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CF2B90-E8BC-4BA3-8F78-A0F59141A7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69BAC-CA90-48AA-87E6-D35656C62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D408AB-2106-4D7F-A07A-0BC2051E46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551E06-9903-4F6C-AA1E-C024F081740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82E2C8-A86C-4980-9BC8-791941883B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5323A8-68BA-40C3-8920-AC9328D2093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FB14-FC65-4F47-B213-2C35E93CD00C}"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C1AA-24A3-4597-A5A1-A852F6B8D0EB}"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6870-F686-4639-9E3D-ED75A6106300}"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D6CE-9262-4771-9618-6637AE084592}"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AD62-0526-4413-8240-DE5BB05C3832}"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62EF-2A39-4DA4-80E7-D265AEE5EA37}"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A563-DB18-42F3-A526-FE43B9001D8E}"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6ECB-CCC4-4477-B348-78BDED1744BC}"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E22A-3104-4859-8E4B-A022ADB2FF1B}"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6271-336B-4187-90E6-0DC8B7AB56E9}"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35B6-9481-4D47-B68E-2C17A48E2C3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4C4C-3D71-452B-AC72-95084A5902D8}"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32A0-A4FD-4EC2-8098-1EE352E6117D}"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917B-CABF-41F3-9AB3-C84B9AE850E8}"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76BF-9FEC-41BB-AC78-A3F354EEEE5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646C-DAB8-4EB4-9845-EC4FB9230209}"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DFF0-54F8-4F06-881F-3EF7AE1E728E}"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6A05-D5D4-4A49-B6CE-BF73DC14EEEB}"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01D2-4064-48A1-92D5-5D40155E14AE}"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F8BD-01D1-4192-9EA3-447F9831CCF0}"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03FD-2286-4521-B4D3-CC9520141C00}"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18F3-FEAD-4BA7-8469-DED9BD36B747}"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5684-F57B-4F93-81B0-297F169FA9D6}" type="datetime">
              <a:rPr b="0" lang="en-US" sz="1400" spc="-1" strike="noStrike">
                <a:solidFill>
                  <a:srgbClr val="ffffff"/>
                </a:solidFill>
                <a:latin typeface="Arial"/>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