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C2CE-0BD1-419B-A1A3-721DB4C63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2 minute video on Civil War Bat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3929-16B8-4A8B-8870-D51B96E53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BCC4-06B9-47C9-AF66-ED1419E9D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5211-6412-4D8E-84F0-6AEF87CEF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CD8A-F545-4489-9712-446D29269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E345F-1AC7-4DD8-B93D-422B74635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B6759-B04B-47EC-83C4-EC873F016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13174-F6BB-4D82-BB37-C8BA584A0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6357A-752C-4F57-BF97-4867BE870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26F22-0CBB-4F1A-86D0-1CDE1A24C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C4411-9A08-43FB-A6F1-D66FD2A5E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3A1A0-2272-4D9A-91B9-9DE33379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A226-108D-4F35-9E2C-06EBBBBDE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3C2C3-055E-4BB8-A00A-AA19388C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B6738-42D0-4833-8462-F67B3673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B3027-6626-4375-B167-C83CEB6C5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5D578-C723-458A-BFFB-2F38971B5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F9013-73A7-43C2-9131-A21ADA0E2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7F2D-238F-401A-AF89-44B9B86E1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1D21-2808-4B4C-97E9-A046E18FB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9475-515D-4C0F-A9DC-F2D01F18A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76DB-9E8C-4E7B-855A-0C1354904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099D-F8F7-4846-976B-C4F43ABA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A28A-767E-4087-A2FE-EF10C371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DC77-6656-4267-8CFE-6BD3A430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4B4A6-0D5E-445C-AE09-1A81ACF08F58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8E859-DAF9-4454-8BCD-1A5898C3B4AB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discoveryeducation.com/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nettrekker.com/" TargetMode="External"/><Relationship Id="rId3" Type="http://schemas.openxmlformats.org/officeDocument/2006/relationships/hyperlink" Target="http://nettrekker.com/" TargetMode="External"/><Relationship Id="rId4" Type="http://schemas.openxmlformats.org/officeDocument/2006/relationships/hyperlink" Target="http://nettrekker.com/" TargetMode="External"/><Relationship Id="rId5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nettrekker.com/" TargetMode="External"/><Relationship Id="rId3" Type="http://schemas.openxmlformats.org/officeDocument/2006/relationships/hyperlink" Target="http://nettrekker.com/" TargetMode="External"/><Relationship Id="rId4" Type="http://schemas.openxmlformats.org/officeDocument/2006/relationships/hyperlink" Target="http://nettrekker.com/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6666"/>
                </a:solidFill>
                <a:latin typeface="Verdana"/>
              </a:rPr>
              <a:t>Creating Educational Movies</a:t>
            </a:r>
            <a:endParaRPr b="1" lang="en-US" sz="37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6666"/>
                </a:solidFill>
                <a:latin typeface="Verdana"/>
              </a:rPr>
              <a:t>Peggy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3700" spc="-1" strike="noStrike">
                <a:solidFill>
                  <a:srgbClr val="006666"/>
                </a:solidFill>
                <a:latin typeface="Verdana"/>
              </a:rPr>
              <a:t>McGraw &amp; Fran Gillen</a:t>
            </a:r>
            <a:endParaRPr b="1" lang="en-US" sz="37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Podcast Project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Multiplication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tates &amp; Capital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Book Report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Journal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reating Stori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Vocabulary Review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amous Speech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5486400" y="2133720"/>
            <a:ext cx="297180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Movie Maker Project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nternet Safet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ommunity Worker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ll About M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tates &amp; Countri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638680" y="2666880"/>
            <a:ext cx="2895840" cy="26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2514240" y="5525640"/>
            <a:ext cx="350532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Grade 6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-Martin Luther King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>
            <a:lum bright="24000"/>
          </a:blip>
          <a:srcRect l="1890" t="13001" r="5556" b="0"/>
          <a:stretch/>
        </p:blipFill>
        <p:spPr>
          <a:xfrm>
            <a:off x="6727680" y="228600"/>
            <a:ext cx="2109960" cy="2514600"/>
          </a:xfrm>
          <a:prstGeom prst="rect">
            <a:avLst/>
          </a:prstGeom>
          <a:ln w="54000">
            <a:solidFill>
              <a:srgbClr val="ff0000"/>
            </a:solidFill>
            <a:miter/>
          </a:ln>
        </p:spPr>
      </p:pic>
      <p:pic>
        <p:nvPicPr>
          <p:cNvPr id="178" name="" descr=""/>
          <p:cNvPicPr/>
          <p:nvPr/>
        </p:nvPicPr>
        <p:blipFill>
          <a:blip r:embed="rId2">
            <a:lum bright="30000"/>
          </a:blip>
          <a:srcRect l="23917" t="9583" r="15000" b="21001"/>
          <a:stretch/>
        </p:blipFill>
        <p:spPr>
          <a:xfrm>
            <a:off x="4417920" y="228600"/>
            <a:ext cx="2102040" cy="2514600"/>
          </a:xfrm>
          <a:prstGeom prst="rect">
            <a:avLst/>
          </a:prstGeom>
          <a:ln w="60480">
            <a:solidFill>
              <a:srgbClr val="ff0000"/>
            </a:solidFill>
            <a:miter/>
          </a:ln>
        </p:spPr>
      </p:pic>
      <p:pic>
        <p:nvPicPr>
          <p:cNvPr id="179" name="" descr=""/>
          <p:cNvPicPr/>
          <p:nvPr/>
        </p:nvPicPr>
        <p:blipFill>
          <a:blip r:embed="rId3"/>
          <a:srcRect l="4440" t="3782" r="0" b="0"/>
          <a:stretch/>
        </p:blipFill>
        <p:spPr>
          <a:xfrm>
            <a:off x="3886200" y="3048120"/>
            <a:ext cx="1805040" cy="2133360"/>
          </a:xfrm>
          <a:prstGeom prst="rect">
            <a:avLst/>
          </a:prstGeom>
          <a:ln w="47520">
            <a:solidFill>
              <a:srgbClr val="ff0000"/>
            </a:solidFill>
            <a:miter/>
          </a:ln>
        </p:spPr>
      </p:pic>
      <p:pic>
        <p:nvPicPr>
          <p:cNvPr id="180" name="" descr=""/>
          <p:cNvPicPr/>
          <p:nvPr/>
        </p:nvPicPr>
        <p:blipFill>
          <a:blip r:embed="rId4"/>
          <a:srcRect l="4878" t="0" r="7344" b="0"/>
          <a:stretch/>
        </p:blipFill>
        <p:spPr>
          <a:xfrm>
            <a:off x="6172200" y="4038480"/>
            <a:ext cx="2743200" cy="2506680"/>
          </a:xfrm>
          <a:prstGeom prst="rect">
            <a:avLst/>
          </a:prstGeom>
          <a:ln w="50760">
            <a:solidFill>
              <a:srgbClr val="ff0000"/>
            </a:solidFill>
            <a:miter/>
          </a:ln>
        </p:spPr>
      </p:pic>
      <p:sp>
        <p:nvSpPr>
          <p:cNvPr id="181" name=""/>
          <p:cNvSpPr/>
          <p:nvPr/>
        </p:nvSpPr>
        <p:spPr>
          <a:xfrm>
            <a:off x="1981080" y="9907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Grade 8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-Civil War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371600" y="335268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Grade 7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-Native American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 rot="5400000">
            <a:off x="-2076840" y="2990880"/>
            <a:ext cx="586764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Adobe Photoshop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Step 1</a:t>
            </a:r>
            <a:br>
              <a:rPr sz="4000"/>
            </a:b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Discovery Education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gn up fo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30 day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ree tria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410080" y="1676520"/>
            <a:ext cx="320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Go to </a:t>
            </a:r>
            <a:r>
              <a:rPr b="0" lang="en-US" sz="2000" spc="-1" strike="noStrike" u="sng">
                <a:solidFill>
                  <a:srgbClr val="cc99ff"/>
                </a:solidFill>
                <a:uFillTx/>
                <a:latin typeface="Verdana"/>
                <a:hlinkClick r:id="rId1"/>
              </a:rPr>
              <a:t>http://discoveryeducation.com/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n the search bar </a:t>
            </a:r>
            <a:br>
              <a:rPr sz="2400"/>
            </a:b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ype Red Badge of Courag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Watch movie and </a:t>
            </a:r>
            <a:br>
              <a:rPr sz="2400"/>
            </a:b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ownload a segment from the movi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33520" y="1828800"/>
            <a:ext cx="46479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91033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1" dur="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rcRect l="6313" t="18984" r="9602" b="4036"/>
          <a:stretch/>
        </p:blipFill>
        <p:spPr>
          <a:xfrm>
            <a:off x="0" y="228600"/>
            <a:ext cx="5105520" cy="66294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1640" y="228240"/>
            <a:ext cx="4343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Step 2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Nettrekker </a:t>
            </a:r>
            <a:br>
              <a:rPr sz="3200"/>
            </a:br>
            <a:r>
              <a:rPr b="0" lang="en-US" sz="2000" spc="-1" strike="noStrike" u="sng">
                <a:solidFill>
                  <a:srgbClr val="cc99ff"/>
                </a:solidFill>
                <a:uFillTx/>
                <a:latin typeface="Verdana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cc99ff"/>
                </a:solidFill>
                <a:uFillTx/>
                <a:latin typeface="Verdana"/>
                <a:hlinkClick r:id="rId3"/>
              </a:rPr>
              <a:t>nettrekker.com</a:t>
            </a:r>
            <a:r>
              <a:rPr b="0" lang="en-US" sz="3200" spc="-1" strike="noStrike" u="sng">
                <a:solidFill>
                  <a:srgbClr val="cc99ff"/>
                </a:solidFill>
                <a:uFillTx/>
                <a:latin typeface="Verdana"/>
                <a:hlinkClick r:id="rId4"/>
              </a:rPr>
              <a:t>/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257800" y="20574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Research the Civil War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Use information you obtained from Discovery Education and Nettrekker to create your movi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rcRect l="11322" t="30566" r="26956" b="6935"/>
          <a:stretch/>
        </p:blipFill>
        <p:spPr>
          <a:xfrm>
            <a:off x="0" y="304920"/>
            <a:ext cx="4800600" cy="563868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6688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Step 3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Nettrekker </a:t>
            </a:r>
            <a:br>
              <a:rPr sz="3200"/>
            </a:br>
            <a:r>
              <a:rPr b="0" lang="en-US" sz="3200" spc="-1" strike="noStrike" u="sng">
                <a:solidFill>
                  <a:srgbClr val="cc99ff"/>
                </a:solidFill>
                <a:uFillTx/>
                <a:latin typeface="Verdana"/>
                <a:hlinkClick r:id="rId2"/>
              </a:rPr>
              <a:t>http://</a:t>
            </a:r>
            <a:r>
              <a:rPr b="0" lang="en-US" sz="3200" spc="-1" strike="noStrike" u="sng">
                <a:solidFill>
                  <a:srgbClr val="cc99ff"/>
                </a:solidFill>
                <a:uFillTx/>
                <a:latin typeface="Verdana"/>
                <a:hlinkClick r:id="rId3"/>
              </a:rPr>
              <a:t>nettrekker.com</a:t>
            </a:r>
            <a:r>
              <a:rPr b="0" lang="en-US" sz="3200" spc="-1" strike="noStrike" u="sng">
                <a:solidFill>
                  <a:srgbClr val="cc99ff"/>
                </a:solidFill>
                <a:uFillTx/>
                <a:latin typeface="Verdana"/>
                <a:hlinkClick r:id="rId4"/>
              </a:rPr>
              <a:t>/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723920" y="2209680"/>
            <a:ext cx="40388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ave picture of </a:t>
            </a:r>
            <a:br>
              <a:rPr sz="2800"/>
            </a:b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 Civil War nurse</a:t>
            </a:r>
            <a:br>
              <a:rPr sz="2800"/>
            </a:b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or Civil War soldier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rcRect l="0" t="0" r="19200" b="0"/>
          <a:stretch/>
        </p:blipFill>
        <p:spPr>
          <a:xfrm>
            <a:off x="380880" y="1523880"/>
            <a:ext cx="4876920" cy="472464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Step 4</a:t>
            </a:r>
            <a:br>
              <a:rPr sz="4400"/>
            </a:b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dobe Photoshop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3760" y="15998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ake digital </a:t>
            </a:r>
            <a:br>
              <a:rPr sz="2400"/>
            </a:b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icture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Open digital </a:t>
            </a:r>
            <a:br>
              <a:rPr sz="2400"/>
            </a:b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icture in Photoshop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Open Civil War </a:t>
            </a:r>
            <a:br>
              <a:rPr sz="2400"/>
            </a:b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ictur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Create your </a:t>
            </a:r>
            <a:br>
              <a:rPr sz="2400"/>
            </a:b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new picture of</a:t>
            </a:r>
            <a:br>
              <a:rPr sz="2400"/>
            </a:b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a soldier or a </a:t>
            </a:r>
            <a:br>
              <a:rPr sz="2400"/>
            </a:b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nurse from the </a:t>
            </a:r>
            <a:br>
              <a:rPr sz="2400"/>
            </a:b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Civil War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Add newly created picture to </a:t>
            </a:r>
            <a:br>
              <a:rPr sz="2400"/>
            </a:b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your Movie Maker project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Step 5</a:t>
            </a:r>
            <a:br>
              <a:rPr sz="4400"/>
            </a:b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udacity (Free download)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952880" y="1600200"/>
            <a:ext cx="41911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Record your journal about a day in the life of a soldier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dd gun shot sound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dd son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ave as a wav fil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rcRect l="0" t="0" r="0" b="10449"/>
          <a:stretch/>
        </p:blipFill>
        <p:spPr>
          <a:xfrm>
            <a:off x="228600" y="1523880"/>
            <a:ext cx="4800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Step 6</a:t>
            </a:r>
            <a:br>
              <a:rPr sz="4400"/>
            </a:b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Movie Maker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nsert segments from The Red Badge of Courage movie into Movie Maker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nsert newly created pictur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nsert your Podcast recording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Put the movie together and save as a movie fil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Enjoy yourself making the movie!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24364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dobe Photoshop Project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Religion Projects (Nativity Scene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Journals (Native Americans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Story Telling (Monster Exchange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Creating Picture Storie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rcRect l="0" t="0" r="10000" b="0"/>
          <a:stretch/>
        </p:blipFill>
        <p:spPr>
          <a:xfrm>
            <a:off x="4648320" y="1676520"/>
            <a:ext cx="38401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6T21:42:14Z</dcterms:created>
  <dc:creator>p mcgraw</dc:creator>
  <dc:description/>
  <dc:language>en-US</dc:language>
  <cp:lastModifiedBy>OLPH</cp:lastModifiedBy>
  <dcterms:modified xsi:type="dcterms:W3CDTF">2009-01-05T02:32:40Z</dcterms:modified>
  <cp:revision>38</cp:revision>
  <dc:subject/>
  <dc:title>Enhance Students’ Project Using Different Software</dc:title>
</cp:coreProperties>
</file>