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2148-923B-4B94-9C20-1AB3B9954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2 minute video on Civil War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9A6-DE3D-4AB7-887E-A1BA8547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A85-7216-4C52-9E94-1CF5F0BB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237-A839-41B0-84D8-9A3C9644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682-7B8D-4697-8286-844B6779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66ED-84F3-4BE1-B03E-C633BB23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25D1-38DF-4B39-9D44-C44A02A0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3EB8-F17A-4EDC-9DE1-596B47A3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37C2-59C0-46DE-8F3E-D89F1683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4C10-BF4C-478D-827A-BE455E55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6410-44BF-4F9B-A8DC-D389B9F7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5ADF-B132-4D32-B8F0-E1412420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1B0-C56A-4D4E-B587-669EB11C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3A22-9D04-4AE6-A0E9-592B91A1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E731-51E5-447C-A0DD-4D16489B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F4DB-0369-4F1F-AFB5-F6C216A0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06A7-DDBF-42A0-BB7F-071A3C9A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99D8-AD92-4C9A-88CD-2425DFB9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1CA-1EB6-494F-A876-9F2300C2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B46-C1E0-42A4-966C-14B66BEA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FA8-5AD6-4816-9F10-156B0BC3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CCA-2E29-4375-8EE7-ABF16B08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5FA-5AB2-4F01-B285-FD2A243B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C09-53BC-4CA3-B368-B0E8EF1E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859-2C46-4AFF-9DA4-B94F02FA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90B9-BCE0-4D15-B5A3-F687AD14CDB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52BC-B77E-4442-B743-643294A14FA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scoveryeducation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nettrekker.com/" TargetMode="External"/><Relationship Id="rId3" Type="http://schemas.openxmlformats.org/officeDocument/2006/relationships/hyperlink" Target="http://nettrekker.com/" TargetMode="External"/><Relationship Id="rId4" Type="http://schemas.openxmlformats.org/officeDocument/2006/relationships/hyperlink" Target="http://nettrekker.com/" TargetMode="External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nettrekker.com/" TargetMode="External"/><Relationship Id="rId3" Type="http://schemas.openxmlformats.org/officeDocument/2006/relationships/hyperlink" Target="http://nettrekker.com/" TargetMode="External"/><Relationship Id="rId4" Type="http://schemas.openxmlformats.org/officeDocument/2006/relationships/hyperlink" Target="http://nettrekker.com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Creating Educational Movies</a:t>
            </a:r>
            <a:endParaRPr b="1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Peggy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McGraw &amp; Fran Gillen</a:t>
            </a:r>
            <a:endParaRPr b="1" lang="en-US" sz="37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dcast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ultiplication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tes &amp; Capit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ook Repor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Journ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reating Stor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ocabulary Revie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mous Speech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9718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ovie Maker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net Safe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munity Work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l About 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tes &amp; Countr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89584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14240" y="5525640"/>
            <a:ext cx="35053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6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Martin Luther K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bright="24000"/>
          </a:blip>
          <a:srcRect l="1890" t="13001" r="5556" b="0"/>
          <a:stretch/>
        </p:blipFill>
        <p:spPr>
          <a:xfrm>
            <a:off x="6727680" y="228600"/>
            <a:ext cx="2109960" cy="2514600"/>
          </a:xfrm>
          <a:prstGeom prst="rect">
            <a:avLst/>
          </a:prstGeom>
          <a:ln w="54000">
            <a:solidFill>
              <a:srgbClr val="ff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2">
            <a:lum bright="30000"/>
          </a:blip>
          <a:srcRect l="23917" t="9583" r="15000" b="21001"/>
          <a:stretch/>
        </p:blipFill>
        <p:spPr>
          <a:xfrm>
            <a:off x="4417920" y="228600"/>
            <a:ext cx="2102040" cy="2514600"/>
          </a:xfrm>
          <a:prstGeom prst="rect">
            <a:avLst/>
          </a:prstGeom>
          <a:ln w="60480">
            <a:solidFill>
              <a:srgbClr val="ff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4440" t="3782" r="0" b="0"/>
          <a:stretch/>
        </p:blipFill>
        <p:spPr>
          <a:xfrm>
            <a:off x="3886200" y="3048120"/>
            <a:ext cx="1805040" cy="2133360"/>
          </a:xfrm>
          <a:prstGeom prst="rect">
            <a:avLst/>
          </a:prstGeom>
          <a:ln w="47520">
            <a:solidFill>
              <a:srgbClr val="ff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rcRect l="4878" t="0" r="7344" b="0"/>
          <a:stretch/>
        </p:blipFill>
        <p:spPr>
          <a:xfrm>
            <a:off x="6172200" y="4038480"/>
            <a:ext cx="2743200" cy="250668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981080" y="9907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8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Civil Wa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3526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-Native America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 rot="5400000">
            <a:off x="-2076840" y="2990880"/>
            <a:ext cx="5867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dobe Photoshop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tep 1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iscovery Educa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gn up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30 da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ee tria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410080" y="167652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o to </a:t>
            </a: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discoveryeducation.com/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 the search ba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ype Red Badge of Cour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atch movie and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wnload a segment from the movi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464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91033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6313" t="18984" r="9602" b="4036"/>
          <a:stretch/>
        </p:blipFill>
        <p:spPr>
          <a:xfrm>
            <a:off x="0" y="228600"/>
            <a:ext cx="5105520" cy="6629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ep 2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ettrekker </a:t>
            </a:r>
            <a:br>
              <a:rPr sz="3200"/>
            </a:b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nettrekker.com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/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257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search the Civil War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se information you obtained from Discovery Education and Nettrekker to create your movi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11322" t="30566" r="26956" b="6935"/>
          <a:stretch/>
        </p:blipFill>
        <p:spPr>
          <a:xfrm>
            <a:off x="0" y="304920"/>
            <a:ext cx="4800600" cy="56386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ep 3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ettrekker </a:t>
            </a:r>
            <a:br>
              <a:rPr sz="3200"/>
            </a:b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nettrekker.com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/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23920" y="2209680"/>
            <a:ext cx="4038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ave picture of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Civil War nurse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r Civil War sold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0" r="19200" b="0"/>
          <a:stretch/>
        </p:blipFill>
        <p:spPr>
          <a:xfrm>
            <a:off x="380880" y="1523880"/>
            <a:ext cx="4876920" cy="4724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4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dobe Photo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ake digital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 digital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 in Photoshop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 Civil Wa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e you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w picture of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 soldier or a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e from the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ivil Wa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dd newly created picture to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r Movie Maker projec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5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udacity (Free download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4191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cord your journal about a day in the life of a sold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d gun shot soun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d so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ave as a wav fi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10449"/>
          <a:stretch/>
        </p:blipFill>
        <p:spPr>
          <a:xfrm>
            <a:off x="228600" y="152388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6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ovie M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segments from The Red Badge of Courage movie into Movie Mak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newly created pic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your Podcast record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ut the movie together and save as a movie fi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njoy yourself making the movie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2436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dobe Photoshop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ligion Projects (Nativity Scen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Journals (Native American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ory Telling (Monster Exchang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ing Picture Stori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10000" b="0"/>
          <a:stretch/>
        </p:blipFill>
        <p:spPr>
          <a:xfrm>
            <a:off x="4648320" y="1676520"/>
            <a:ext cx="3840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1:42:14Z</dcterms:created>
  <dc:creator>p mcgraw</dc:creator>
  <dc:description/>
  <dc:language>en-US</dc:language>
  <cp:lastModifiedBy>OLPH</cp:lastModifiedBy>
  <dcterms:modified xsi:type="dcterms:W3CDTF">2009-01-05T02:32:40Z</dcterms:modified>
  <cp:revision>38</cp:revision>
  <dc:subject/>
  <dc:title>Enhance Students’ Project Using Different Software</dc:title>
</cp:coreProperties>
</file>