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F8C5-4B55-404F-81A4-3AD2E5AE8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2 minute video on Civil War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6DB-9ED4-4B4C-A1CF-4745881A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F63-7255-42F6-89DD-9C0BF852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9A4-E97E-4E20-934C-4E39CCE7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ED9-4D1B-4BD4-AEF7-71587F13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7839-24B2-4438-AD7A-00076ACE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D8E6-90E2-45A7-A149-F9A7F39F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2F9-F5A6-4027-BA1D-A5F706FE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740D-A948-4928-A20C-F24B72CD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9F65-0301-4BFF-9715-06FAFCB3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28E8-F7F2-4011-BB90-B277A65F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3DE4-2FDB-4FDF-AAC1-2F416B97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3CB-4224-414F-B035-BC0EB08A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164D-D7B9-45EE-8817-CBFC114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C871-C537-4ECD-9A91-5918D21A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2B17-CFFD-4888-B9CB-0ABEACB4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AEAE-A853-40B5-8C73-AE2289C7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20C3-3315-44D5-9067-FEF29F18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5FE-782B-4C9F-B04D-C3FEE4FD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936-8F3C-4D0E-9C03-6DF4D204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AC9-6968-44C4-926A-A2BFD7D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41E-BB12-4141-B561-520C458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C6B-34EA-40D7-8DB2-AA7C8BA2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2B4-29B4-4F9B-B7D3-F266939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79D-68E8-45A6-95AB-BD39E3F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92CD-3130-4F37-8999-BB158288FE7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A731-2BBB-48E0-8102-5C59229D8B6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scoveryeducation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Creating Educational Movies</a:t>
            </a:r>
            <a:endParaRPr b="1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Peggy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McGraw &amp; Fran Gillen</a:t>
            </a:r>
            <a:endParaRPr b="1" lang="en-US" sz="37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dcast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ltiplicat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apit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ok Repor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eating Sto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ocabulary Re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ous Speech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9718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net Safe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munity Work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 About 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ount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89584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14240" y="5525640"/>
            <a:ext cx="35053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6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Martin Luther K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bright="24000"/>
          </a:blip>
          <a:srcRect l="1890" t="13001" r="5556" b="0"/>
          <a:stretch/>
        </p:blipFill>
        <p:spPr>
          <a:xfrm>
            <a:off x="6727680" y="228600"/>
            <a:ext cx="2109960" cy="2514600"/>
          </a:xfrm>
          <a:prstGeom prst="rect">
            <a:avLst/>
          </a:prstGeom>
          <a:ln w="5400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>
            <a:lum bright="30000"/>
          </a:blip>
          <a:srcRect l="23917" t="9583" r="15000" b="21001"/>
          <a:stretch/>
        </p:blipFill>
        <p:spPr>
          <a:xfrm>
            <a:off x="4417920" y="228600"/>
            <a:ext cx="2102040" cy="2514600"/>
          </a:xfrm>
          <a:prstGeom prst="rect">
            <a:avLst/>
          </a:prstGeom>
          <a:ln w="60480">
            <a:solidFill>
              <a:srgbClr val="ff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4440" t="3782" r="0" b="0"/>
          <a:stretch/>
        </p:blipFill>
        <p:spPr>
          <a:xfrm>
            <a:off x="3886200" y="3048120"/>
            <a:ext cx="1805040" cy="213336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rcRect l="4878" t="0" r="7344" b="0"/>
          <a:stretch/>
        </p:blipFill>
        <p:spPr>
          <a:xfrm>
            <a:off x="6172200" y="4038480"/>
            <a:ext cx="2743200" cy="25066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981080" y="990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Civil Wa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3526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Native America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5400000">
            <a:off x="-2076840" y="2990880"/>
            <a:ext cx="5867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dobe Photoshop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tep 1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iscovery Educ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gn up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30 da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e tria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410080" y="16765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o to 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discoveryeducation.com/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the search b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ype Red Badge of Cou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atch movie and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wnload a segment from the movi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64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1033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6313" t="18984" r="9602" b="4036"/>
          <a:stretch/>
        </p:blipFill>
        <p:spPr>
          <a:xfrm>
            <a:off x="0" y="228600"/>
            <a:ext cx="5105520" cy="6629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2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57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search the Civil War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information you obtained from Discovery Education and Nettrekker to create your movi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1322" t="30566" r="26956" b="6935"/>
          <a:stretch/>
        </p:blipFill>
        <p:spPr>
          <a:xfrm>
            <a:off x="0" y="304920"/>
            <a:ext cx="4800600" cy="5638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23920" y="220968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picture of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Civil War nurse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r Civil War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0" r="19200" b="0"/>
          <a:stretch/>
        </p:blipFill>
        <p:spPr>
          <a:xfrm>
            <a:off x="380880" y="15238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4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ake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 in Photosh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Civil W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e you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w picture of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oldier or a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from the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vil Wa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d newly created picture to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r Movie Maker proj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5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udacity (Free download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4191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cord your journal about a day in the life of a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gun shot soun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so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as a wav fi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10449"/>
          <a:stretch/>
        </p:blipFill>
        <p:spPr>
          <a:xfrm>
            <a:off x="228600" y="152388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6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segments from The Red Badge of Courage movie into Movie Mak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newly created pic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your Podcast record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ut the movie together and save as a movie fi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joy yourself making the movi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2436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n Projects (Nativity Scen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ournals (Native American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ory Telling (Monster Exchang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ing Picture Stor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10000" b="0"/>
          <a:stretch/>
        </p:blipFill>
        <p:spPr>
          <a:xfrm>
            <a:off x="4648320" y="1676520"/>
            <a:ext cx="3840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1:42:14Z</dcterms:created>
  <dc:creator>p mcgraw</dc:creator>
  <dc:description/>
  <dc:language>en-US</dc:language>
  <cp:lastModifiedBy>OLPH</cp:lastModifiedBy>
  <dcterms:modified xsi:type="dcterms:W3CDTF">2009-01-05T02:32:40Z</dcterms:modified>
  <cp:revision>38</cp:revision>
  <dc:subject/>
  <dc:title>Enhance Students’ Project Using Different Software</dc:title>
</cp:coreProperties>
</file>