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BD8B-A0D8-4FC8-BB64-57011BA11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2 minute video on Civil War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4B56-7233-47DA-910B-35E7191B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5B9F-DE3F-487F-9DDE-F78CCA63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89F8-B291-409B-A818-EEFCE444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88B0-B782-4E43-8F65-7D6E33B9F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186E-5A64-48D1-9A0C-E661960DF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4EB4-D408-439A-A656-D4B41EB8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F19B-E457-45E2-8A77-051069B4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2175-E961-406C-954B-55093955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2D05-7E7B-4D1E-8247-A8583DF0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A1BE-B215-4917-AEBE-33FCA8EE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0FBC-63E4-494D-B45F-1FB5CE98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4623-A543-4A71-BE0D-E8C371BC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FA34-8CC3-4AF5-AAAA-DD2995CF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C7F6-2EB9-4625-A750-FABF8492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C79F-697C-41B6-8B3C-BF7D0625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CD75-CAF6-45CC-9197-F18AB362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8157-7AC7-4A09-A863-DDFEC37A8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E78D-BB12-44B2-893F-975D4B46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48D8-8797-4F5A-AD4E-BF974E01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B53C-D164-4793-8E74-892AD96B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41E1-210F-417C-815E-FE4D58CB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BDB9-297A-4787-BFBA-5A241C94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857E-05D9-4C8B-8F97-E7B1AA8F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4B5F-06BA-497C-8192-E08461F7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02D8-B3BB-45E9-AB92-E6696EA7467B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B7C6-00D4-4228-AD53-79B561B3F3FF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iscoveryeducation.com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nettrekker.com/" TargetMode="External"/><Relationship Id="rId3" Type="http://schemas.openxmlformats.org/officeDocument/2006/relationships/hyperlink" Target="http://nettrekker.com/" TargetMode="External"/><Relationship Id="rId4" Type="http://schemas.openxmlformats.org/officeDocument/2006/relationships/hyperlink" Target="http://nettrekker.com/" TargetMode="External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nettrekker.com/" TargetMode="External"/><Relationship Id="rId3" Type="http://schemas.openxmlformats.org/officeDocument/2006/relationships/hyperlink" Target="http://nettrekker.com/" TargetMode="External"/><Relationship Id="rId4" Type="http://schemas.openxmlformats.org/officeDocument/2006/relationships/hyperlink" Target="http://nettrekker.com/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66"/>
                </a:solidFill>
                <a:latin typeface="Verdana"/>
              </a:rPr>
              <a:t>Creating Educational Movies</a:t>
            </a:r>
            <a:endParaRPr b="1" lang="en-US" sz="37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66"/>
                </a:solidFill>
                <a:latin typeface="Verdana"/>
              </a:rPr>
              <a:t>Peggy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700" spc="-1" strike="noStrike">
                <a:solidFill>
                  <a:srgbClr val="006666"/>
                </a:solidFill>
                <a:latin typeface="Verdana"/>
              </a:rPr>
              <a:t>McGraw &amp; Fran Gillen</a:t>
            </a:r>
            <a:endParaRPr b="1" lang="en-US" sz="37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odcast Project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ultiplication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tates &amp; Capital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Book Report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Journal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reating Stori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ocabulary Review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amous Speech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297180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Movie Maker Project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ternet Safet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mmunity Worker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ll About M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tates &amp; Countri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638680" y="2666880"/>
            <a:ext cx="289584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514240" y="5525640"/>
            <a:ext cx="350532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Grade 6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Martin Luther Kin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bright="24000"/>
          </a:blip>
          <a:srcRect l="1890" t="13001" r="5556" b="0"/>
          <a:stretch/>
        </p:blipFill>
        <p:spPr>
          <a:xfrm>
            <a:off x="6727680" y="228600"/>
            <a:ext cx="2109960" cy="2514600"/>
          </a:xfrm>
          <a:prstGeom prst="rect">
            <a:avLst/>
          </a:prstGeom>
          <a:ln w="54000">
            <a:solidFill>
              <a:srgbClr val="ff0000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2">
            <a:lum bright="30000"/>
          </a:blip>
          <a:srcRect l="23917" t="9583" r="15000" b="21001"/>
          <a:stretch/>
        </p:blipFill>
        <p:spPr>
          <a:xfrm>
            <a:off x="4417920" y="228600"/>
            <a:ext cx="2102040" cy="2514600"/>
          </a:xfrm>
          <a:prstGeom prst="rect">
            <a:avLst/>
          </a:prstGeom>
          <a:ln w="60480">
            <a:solidFill>
              <a:srgbClr val="ff0000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3"/>
          <a:srcRect l="4440" t="3782" r="0" b="0"/>
          <a:stretch/>
        </p:blipFill>
        <p:spPr>
          <a:xfrm>
            <a:off x="3886200" y="3048120"/>
            <a:ext cx="1805040" cy="2133360"/>
          </a:xfrm>
          <a:prstGeom prst="rect">
            <a:avLst/>
          </a:prstGeom>
          <a:ln w="47520">
            <a:solidFill>
              <a:srgbClr val="ff0000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4"/>
          <a:srcRect l="4878" t="0" r="7344" b="0"/>
          <a:stretch/>
        </p:blipFill>
        <p:spPr>
          <a:xfrm>
            <a:off x="6172200" y="4038480"/>
            <a:ext cx="2743200" cy="250668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1981080" y="9907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Grade 8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Civil Wa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335268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Grade 7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-Native American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 rot="5400000">
            <a:off x="-2076840" y="2990880"/>
            <a:ext cx="58676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Adobe Photoshop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tep 1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Discovery Education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gn up fo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30 da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ree tria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410080" y="167652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Go to </a:t>
            </a:r>
            <a:r>
              <a:rPr b="0" lang="en-US" sz="20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http://discoveryeducation.com/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n the search bar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ype Red Badge of Courag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atch movie and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ownload a segment from the movi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46479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91033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rcRect l="6313" t="18984" r="9602" b="4036"/>
          <a:stretch/>
        </p:blipFill>
        <p:spPr>
          <a:xfrm>
            <a:off x="0" y="228600"/>
            <a:ext cx="5105520" cy="66294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1640" y="228240"/>
            <a:ext cx="4343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Step 2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Nettrekker </a:t>
            </a:r>
            <a:br>
              <a:rPr sz="3200"/>
            </a:br>
            <a:r>
              <a:rPr b="0" lang="en-US" sz="20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99ff"/>
                </a:solidFill>
                <a:uFillTx/>
                <a:latin typeface="Verdana"/>
                <a:hlinkClick r:id="rId3"/>
              </a:rPr>
              <a:t>nettrekker.com</a:t>
            </a: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4"/>
              </a:rPr>
              <a:t>/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257800" y="2057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esearch the Civil War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Use information you obtained from Discovery Education and Nettrekker to create your movi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11322" t="30566" r="26956" b="6935"/>
          <a:stretch/>
        </p:blipFill>
        <p:spPr>
          <a:xfrm>
            <a:off x="0" y="304920"/>
            <a:ext cx="4800600" cy="56386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668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Step 3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Nettrekker </a:t>
            </a:r>
            <a:br>
              <a:rPr sz="3200"/>
            </a:b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3"/>
              </a:rPr>
              <a:t>nettrekker.com</a:t>
            </a: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4"/>
              </a:rPr>
              <a:t>/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723920" y="2209680"/>
            <a:ext cx="40388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ave picture of 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 Civil War nurse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or Civil War soldi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rcRect l="0" t="0" r="19200" b="0"/>
          <a:stretch/>
        </p:blipFill>
        <p:spPr>
          <a:xfrm>
            <a:off x="380880" y="1523880"/>
            <a:ext cx="4876920" cy="4724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tep 4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dobe Photoshop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ake digital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ictur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pen digital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icture in Photoshop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pen Civil War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ictur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reate your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ew picture of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 soldier or a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urse from the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ivil Wa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dd newly created picture to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your Movie Maker projec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tep 5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udacity (Free download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952880" y="1600200"/>
            <a:ext cx="4191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ecord your journal about a day in the life of a soldi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dd gun shot sound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dd son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ave as a wav fil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0" t="0" r="0" b="10449"/>
          <a:stretch/>
        </p:blipFill>
        <p:spPr>
          <a:xfrm>
            <a:off x="228600" y="1523880"/>
            <a:ext cx="4800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tep 6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Movie Maker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sert segments from The Red Badge of Courage movie into Movie Make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sert newly created pictur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sert your Podcast recordin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ut the movie together and save as a movie fil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njoy yourself making the movie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2436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dobe Photoshop Project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eligion Projects (Nativity Scene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Journals (Native Americans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tory Telling (Monster Exchange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reating Picture Stori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0" t="0" r="10000" b="0"/>
          <a:stretch/>
        </p:blipFill>
        <p:spPr>
          <a:xfrm>
            <a:off x="4648320" y="1676520"/>
            <a:ext cx="38401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21:42:14Z</dcterms:created>
  <dc:creator>p mcgraw</dc:creator>
  <dc:description/>
  <dc:language>en-US</dc:language>
  <cp:lastModifiedBy>OLPH</cp:lastModifiedBy>
  <dcterms:modified xsi:type="dcterms:W3CDTF">2009-01-05T02:32:40Z</dcterms:modified>
  <cp:revision>38</cp:revision>
  <dc:subject/>
  <dc:title>Enhance Students’ Project Using Different Software</dc:title>
</cp:coreProperties>
</file>