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0591-1251-4318-8FB7-48820FACF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2 minute video on Civil War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3A17-9FA4-4022-B9EB-76C22AAA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F31-1F86-4E29-B516-0FBCCBFA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2B8-9DE5-4C4E-9B56-12D333C9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3D2-F4F3-44AA-B2CF-B6E481EA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F489-9CE6-4B8B-A464-A6C3B46D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5973-F550-43B1-8E8E-E29A8F00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33B6-3F25-42E8-B660-6491D19C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D441-A6D3-4A5B-8990-BA4D5433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DA1E-F34F-489E-8A93-40FFD35A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0F17-5270-4067-8D47-6810D7A5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7C70-1D70-4489-957E-3703DCB3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0D51-87D9-495B-AC59-11C7019C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F210-AE6C-4B49-B2A9-98520904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B4E9-1D1D-4361-8BE2-60F0A330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7331-EEC0-48FB-A3E2-CE97C2C6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CD7A-6983-44D5-8554-DBCF817F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82CC-8DB3-4522-AA3B-20FCB235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FE8-DE93-409C-B79E-63A06949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B1AA-B19F-4D3A-991A-7C492D62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4CCC-9CED-4C4A-8510-59AA1711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835E-43C8-4A97-8B17-7E9180B4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ABC9-40C8-4915-8369-C9DB8F67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A9E-1089-4B69-AA13-30096A47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F54-5111-4F4B-9FAD-D73C112B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D63B-B4C9-4E37-91C7-6DBE0DC8F46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20D6-7EE6-45F5-8304-D53B150993F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iscoveryeducation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nettrekker.com/" TargetMode="External"/><Relationship Id="rId3" Type="http://schemas.openxmlformats.org/officeDocument/2006/relationships/hyperlink" Target="http://nettrekker.com/" TargetMode="External"/><Relationship Id="rId4" Type="http://schemas.openxmlformats.org/officeDocument/2006/relationships/hyperlink" Target="http://nettrekker.com/" TargetMode="External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nettrekker.com/" TargetMode="External"/><Relationship Id="rId3" Type="http://schemas.openxmlformats.org/officeDocument/2006/relationships/hyperlink" Target="http://nettrekker.com/" TargetMode="External"/><Relationship Id="rId4" Type="http://schemas.openxmlformats.org/officeDocument/2006/relationships/hyperlink" Target="http://nettrekker.com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66"/>
                </a:solidFill>
                <a:latin typeface="Verdana"/>
              </a:rPr>
              <a:t>Creating Educational Movies</a:t>
            </a:r>
            <a:endParaRPr b="1" lang="en-US" sz="3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66"/>
                </a:solidFill>
                <a:latin typeface="Verdana"/>
              </a:rPr>
              <a:t>Peggy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700" spc="-1" strike="noStrike">
                <a:solidFill>
                  <a:srgbClr val="006666"/>
                </a:solidFill>
                <a:latin typeface="Verdana"/>
              </a:rPr>
              <a:t>McGraw &amp; Fran Gillen</a:t>
            </a:r>
            <a:endParaRPr b="1" lang="en-US" sz="37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odcast Projec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ultiplication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ates &amp; Capita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ook Repor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Journa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reating Stori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ocabulary Review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amous Speech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9718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ovie Maker Projec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net Safet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munity Worke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l About M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ates &amp; Countri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89584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514240" y="5525640"/>
            <a:ext cx="35053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Grade 6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Martin Luther K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bright="24000"/>
          </a:blip>
          <a:srcRect l="1890" t="13001" r="5556" b="0"/>
          <a:stretch/>
        </p:blipFill>
        <p:spPr>
          <a:xfrm>
            <a:off x="6727680" y="228600"/>
            <a:ext cx="2109960" cy="2514600"/>
          </a:xfrm>
          <a:prstGeom prst="rect">
            <a:avLst/>
          </a:prstGeom>
          <a:ln w="54000">
            <a:solidFill>
              <a:srgbClr val="ff00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2">
            <a:lum bright="30000"/>
          </a:blip>
          <a:srcRect l="23917" t="9583" r="15000" b="21001"/>
          <a:stretch/>
        </p:blipFill>
        <p:spPr>
          <a:xfrm>
            <a:off x="4417920" y="228600"/>
            <a:ext cx="2102040" cy="2514600"/>
          </a:xfrm>
          <a:prstGeom prst="rect">
            <a:avLst/>
          </a:prstGeom>
          <a:ln w="60480">
            <a:solidFill>
              <a:srgbClr val="ff00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3"/>
          <a:srcRect l="4440" t="3782" r="0" b="0"/>
          <a:stretch/>
        </p:blipFill>
        <p:spPr>
          <a:xfrm>
            <a:off x="3886200" y="3048120"/>
            <a:ext cx="1805040" cy="2133360"/>
          </a:xfrm>
          <a:prstGeom prst="rect">
            <a:avLst/>
          </a:prstGeom>
          <a:ln w="47520">
            <a:solidFill>
              <a:srgbClr val="ff0000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4"/>
          <a:srcRect l="4878" t="0" r="7344" b="0"/>
          <a:stretch/>
        </p:blipFill>
        <p:spPr>
          <a:xfrm>
            <a:off x="6172200" y="4038480"/>
            <a:ext cx="2743200" cy="250668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1981080" y="9907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Grade 8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Civil Wa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33526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Grade 7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-Native America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 rot="5400000">
            <a:off x="-2076840" y="2990880"/>
            <a:ext cx="58676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Adobe Photoshop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tep 1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Discovery Educatio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gn up f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30 da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ree tria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410080" y="167652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Go to </a:t>
            </a: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http://discoveryeducation.com/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 the search bar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ype Red Badge of Courag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atch movie and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wnload a segment from the movi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4647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91033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rcRect l="6313" t="18984" r="9602" b="4036"/>
          <a:stretch/>
        </p:blipFill>
        <p:spPr>
          <a:xfrm>
            <a:off x="0" y="228600"/>
            <a:ext cx="5105520" cy="66294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1640" y="228240"/>
            <a:ext cx="4343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Step 2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ettrekker </a:t>
            </a:r>
            <a:br>
              <a:rPr sz="3200"/>
            </a:b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nettrekker.com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/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2578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search the Civil War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se information you obtained from Discovery Education and Nettrekker to create your movi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11322" t="30566" r="26956" b="6935"/>
          <a:stretch/>
        </p:blipFill>
        <p:spPr>
          <a:xfrm>
            <a:off x="0" y="304920"/>
            <a:ext cx="4800600" cy="56386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Step 3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ettrekker </a:t>
            </a:r>
            <a:br>
              <a:rPr sz="3200"/>
            </a:b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nettrekker.com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/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23920" y="2209680"/>
            <a:ext cx="40388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ave picture of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Civil War nurse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r Civil War soldi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0" t="0" r="19200" b="0"/>
          <a:stretch/>
        </p:blipFill>
        <p:spPr>
          <a:xfrm>
            <a:off x="380880" y="1523880"/>
            <a:ext cx="4876920" cy="4724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ep 4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dobe Photoshop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ake digital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ictur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pen digital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icture in Photoshop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pen Civil War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ictur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reate your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ew picture of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 soldier or a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urse from the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ivil Wa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dd newly created picture to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your Movie Maker projec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ep 5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udacity (Free download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4191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cord your journal about a day in the life of a soldi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dd gun shot sound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dd so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ave as a wav fi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0" r="0" b="10449"/>
          <a:stretch/>
        </p:blipFill>
        <p:spPr>
          <a:xfrm>
            <a:off x="228600" y="1523880"/>
            <a:ext cx="480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ep 6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ovie Mak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sert segments from The Red Badge of Courage movie into Movie Mak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sert newly created pictu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sert your Podcast record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ut the movie together and save as a movie fi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njoy yourself making the movie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2436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dobe Photoshop Projec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ligion Projects (Nativity Scene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Journals (Native American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tory Telling (Monster Exchange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reating Picture Stori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0" r="10000" b="0"/>
          <a:stretch/>
        </p:blipFill>
        <p:spPr>
          <a:xfrm>
            <a:off x="4648320" y="1676520"/>
            <a:ext cx="3840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21:42:14Z</dcterms:created>
  <dc:creator>p mcgraw</dc:creator>
  <dc:description/>
  <dc:language>en-US</dc:language>
  <cp:lastModifiedBy>OLPH</cp:lastModifiedBy>
  <dcterms:modified xsi:type="dcterms:W3CDTF">2009-01-05T02:32:40Z</dcterms:modified>
  <cp:revision>38</cp:revision>
  <dc:subject/>
  <dc:title>Enhance Students’ Project Using Different Software</dc:title>
</cp:coreProperties>
</file>